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AC5-57FD-4C54-A625-A2BC7157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D9A-D962-43F2-98E1-01AFD53A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685-6BF9-45AD-9196-8476D7E2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E8A-8B89-4ADC-B41F-7D4BCB68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D75-E142-4E79-B060-8D98603A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F43-6F0E-419D-BE98-F5FB44DE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7B5-A166-4B57-A349-62C60789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169-6D7A-4B93-9836-27D71A18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A4C-EE70-4BCD-9592-5B07B95A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793-BAC0-434F-AC03-70CF44DC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7AE-C777-4EA4-B6B8-E17A51F0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FA4D-A859-444A-B91D-702A29B1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9245-EF5D-476E-AC20-FA2641E675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11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11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11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科利亚的木匣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228600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幼圆"/>
              </a:rPr>
              <a:t>18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幼圆"/>
              </a:rPr>
              <a:t>、科利亚的木匣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480" y="9907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知道是怎么回事啦！木匣是我四年前埋的，那时候我还小，步子也小。我现在九岁啦，步子比那时候大了一倍，所以应该走的不是十步，而是五步。你们看，我马上回找到我的木匣子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9144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仍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1523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8380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依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7621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近义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447200" y="-588960"/>
            <a:ext cx="59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65760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果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38862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果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35812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近义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音         初读           分段          埋          挖      启示    近义词       插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科利亚高兴地说：“伙伴们，今天我不光找到了匣子，还懂得了时间一天天过去，我们一天天长大，步子也在渐渐变大。周围的一切，不是都在起变化么？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2514600" y="5791320"/>
            <a:ext cx="685800" cy="30456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科利亚高兴地说：“伙伴们，今天我不光找到了匣子，还懂得了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时间一天天过去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我们一天天长大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，步子也在渐渐变大。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周围的一切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不是都在起变化么？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2514600" y="5715000"/>
            <a:ext cx="609480" cy="228600"/>
          </a:xfrm>
          <a:custGeom>
            <a:avLst/>
            <a:gdLst>
              <a:gd name="textAreaLeft" fmla="*/ 106560 w 609480"/>
              <a:gd name="textAreaRight" fmla="*/ 44208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科利亚的木匣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3808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读读下列词语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并给字注音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8288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科利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18288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木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8288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挖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18288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冰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2578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手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35053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山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34290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躲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5053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12193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2193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xi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2193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1143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xi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7432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274320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2819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4956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2819520" y="5486400"/>
            <a:ext cx="838080" cy="304920"/>
          </a:xfrm>
          <a:custGeom>
            <a:avLst/>
            <a:gdLst>
              <a:gd name="textAreaLeft" fmla="*/ 146520 w 838080"/>
              <a:gd name="textAreaRight" fmla="*/ 607680 w 8380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64008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304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战争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文中提到的“战争”是指苏联卫国战争，是苏联人民为反对德国法西斯及其盟国进行的正义战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066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23623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6668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法西斯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无理侵略别国领土的行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1911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木匣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木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5562720"/>
            <a:ext cx="838080" cy="304560"/>
          </a:xfrm>
          <a:custGeom>
            <a:avLst/>
            <a:gdLst>
              <a:gd name="textAreaLeft" fmla="*/ 146520 w 838080"/>
              <a:gd name="textAreaRight" fmla="*/ 607680 w 83808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64008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04920"/>
            <a:ext cx="9144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一、读准字音，遇到不懂的字要查字典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二、想一想课文讲了一件什么事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三、根据提示给课文分段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埋木匣”“挖木匣”“得到启示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启示    近义词       插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9144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一部分：（            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埋木匣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438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二部分：（             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挖木匣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3962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三部分：（             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得到启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838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—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24382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4—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39625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挖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5146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埋木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472428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埋木匣的原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137160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581280"/>
            <a:ext cx="609480" cy="12193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46483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科利亚只会数到十，就向前走了十步，埋下了他的木匣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0574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他从家门口朝前走，数了十步，就用铲子挖起坑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3581280"/>
            <a:ext cx="486000" cy="914400"/>
          </a:xfrm>
          <a:prstGeom prst="downArrow">
            <a:avLst>
              <a:gd name="adj1" fmla="val 50000"/>
              <a:gd name="adj2" fmla="val 470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在第一部分中找出与这一句对应的句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44197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法西斯被赶走了，科利亚回到家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0481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数了三十步，妈妈挖到了箱子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8672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科利亚数了十步，却没挖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6765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经过思考，科利亚终于挖到了木匣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572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仔细读第二部分，重新排列顺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0" y="53352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29528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4800600"/>
            <a:ext cx="8915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经过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思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科利亚终于挖到了木匣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0574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数了三十步，妈妈挖到了箱子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94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法西斯被赶走了，科利亚回到家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4290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科利亚数了十步，却没挖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4008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注音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初读  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分段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  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启示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近义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插图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0:16:21Z</dcterms:created>
  <dc:creator>fhxx</dc:creator>
  <dc:description/>
  <dc:language>en-US</dc:language>
  <cp:lastModifiedBy>fhxx</cp:lastModifiedBy>
  <dcterms:modified xsi:type="dcterms:W3CDTF">2003-11-26T02:37:01Z</dcterms:modified>
  <cp:revision>6</cp:revision>
  <dc:subject/>
  <dc:title>PowerPoint 演示文稿</dc:title>
</cp:coreProperties>
</file>