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BB0-42AA-4EB1-A59D-D528227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610-2CE1-4DAB-90AB-7BBF4898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C88-298A-4566-AD29-C1CFE0E4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EDF-5C56-4F00-BACA-C02A9DEB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5C5-48C7-4135-B04A-A12EFF0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A25-18A5-47C1-8345-1DC1FE3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5ED-06F2-4A38-829F-7DEEEF3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6DB-A67F-4A60-B9F5-4696D766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4ED-3563-4BB3-98C8-449A0A3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D95-9D35-4CB2-8598-453B26B2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104-1240-43AF-9D91-96367D6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76-DB97-499F-AB90-916A9575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4D2C-7C26-437C-8982-C4DE32ED53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tu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971800" y="1905120"/>
            <a:ext cx="5867280" cy="4040280"/>
            <a:chOff x="2971800" y="1905120"/>
            <a:chExt cx="5867280" cy="4040280"/>
          </a:xfrm>
        </p:grpSpPr>
        <p:sp>
          <p:nvSpPr>
            <p:cNvPr id="43" name=""/>
            <p:cNvSpPr/>
            <p:nvPr/>
          </p:nvSpPr>
          <p:spPr>
            <a:xfrm>
              <a:off x="6553080" y="440388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陶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48320" y="190512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Times New Roman"/>
                </a:rPr>
                <a:t>和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493704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铁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4756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生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819520"/>
            <a:ext cx="762012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1" action="ppaction://hlinksldjump"/>
              </a:rPr>
              <a:t>奚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谦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懦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睦  耻  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76212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9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陶罐和铁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447920" y="1905120"/>
            <a:ext cx="3200400" cy="1663200"/>
            <a:chOff x="1447920" y="1905120"/>
            <a:chExt cx="3200400" cy="1663200"/>
          </a:xfrm>
        </p:grpSpPr>
        <p:sp>
          <p:nvSpPr>
            <p:cNvPr id="52" name=""/>
            <p:cNvSpPr/>
            <p:nvPr/>
          </p:nvSpPr>
          <p:spPr>
            <a:xfrm>
              <a:off x="1447920" y="1905120"/>
              <a:ext cx="1371600" cy="152388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743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宋体"/>
                </a:rPr>
                <a:t>谦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48320" y="1905120"/>
            <a:ext cx="3047760" cy="1663200"/>
            <a:chOff x="4648320" y="1905120"/>
            <a:chExt cx="3047760" cy="1663200"/>
          </a:xfrm>
        </p:grpSpPr>
        <p:sp>
          <p:nvSpPr>
            <p:cNvPr id="55" name=""/>
            <p:cNvSpPr/>
            <p:nvPr/>
          </p:nvSpPr>
          <p:spPr>
            <a:xfrm>
              <a:off x="6324480" y="1905120"/>
              <a:ext cx="1371600" cy="152388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2743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宋体"/>
                </a:rPr>
                <a:t>傲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" y="3657600"/>
            <a:ext cx="3505320" cy="1600200"/>
            <a:chOff x="457200" y="3657600"/>
            <a:chExt cx="3505320" cy="1600200"/>
          </a:xfrm>
        </p:grpSpPr>
        <p:sp>
          <p:nvSpPr>
            <p:cNvPr id="58" name=""/>
            <p:cNvSpPr/>
            <p:nvPr/>
          </p:nvSpPr>
          <p:spPr>
            <a:xfrm>
              <a:off x="457200" y="419112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光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朴素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美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3657600"/>
              <a:ext cx="457200" cy="1600200"/>
            </a:xfrm>
            <a:prstGeom prst="leftArrowCallout">
              <a:avLst>
                <a:gd name="adj1" fmla="val 87508"/>
                <a:gd name="adj2" fmla="val 87500"/>
                <a:gd name="adj3" fmla="val 16667"/>
                <a:gd name="adj4" fmla="val 666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57800" y="3657600"/>
            <a:ext cx="3276720" cy="1600200"/>
            <a:chOff x="5257800" y="3657600"/>
            <a:chExt cx="3276720" cy="1600200"/>
          </a:xfrm>
        </p:grpSpPr>
        <p:sp>
          <p:nvSpPr>
            <p:cNvPr id="61" name=""/>
            <p:cNvSpPr/>
            <p:nvPr/>
          </p:nvSpPr>
          <p:spPr>
            <a:xfrm>
              <a:off x="5791320" y="41911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不复存在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3657600"/>
              <a:ext cx="380880" cy="1600200"/>
            </a:xfrm>
            <a:prstGeom prst="rightArrowCallout">
              <a:avLst>
                <a:gd name="adj1" fmla="val 105043"/>
                <a:gd name="adj2" fmla="val 105033"/>
                <a:gd name="adj3" fmla="val 16667"/>
                <a:gd name="adj4" fmla="val 6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渣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35268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只罐子遗落在荒凉的场地上，上面覆盖了厚厚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渣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尘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羞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2004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你在一起，我感到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羞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你算什么东西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765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52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还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和睦相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吧，有什么可吵的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懦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352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确实不敢碰你，但并不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懦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谦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352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谦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陶罐回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奚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352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傲的铁罐看不起陶罐，常常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奚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05:55Z</dcterms:created>
  <dc:creator>wangliping</dc:creator>
  <dc:description/>
  <dc:language>en-US</dc:language>
  <cp:lastModifiedBy>wangliping</cp:lastModifiedBy>
  <dcterms:modified xsi:type="dcterms:W3CDTF">2002-10-16T08:53:00Z</dcterms:modified>
  <cp:revision>2</cp:revision>
  <dc:subject/>
  <dc:title>PowerPoint 演示文稿</dc:title>
</cp:coreProperties>
</file>