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gif" ContentType="image/gif"/>
  <Override PartName="/ppt/media/image8.jpeg" ContentType="image/jpeg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F9A-B40E-4545-B9E0-8FBE6B15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6DD-D44A-4AB8-9C17-B01A59FF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4A7-C3E2-4349-A070-14107E54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E89-BA6B-4474-9B7B-7E58AE66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E3AA-2E7F-4EAA-B48D-FB1C39DA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8168-6E25-4D0D-BDB1-AE85D2EA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7551-5639-481F-AEAF-3F1B3B16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17F0-C51B-4A21-B761-F1DF36B3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A1DD-51A2-4F8F-8613-6DEEC318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4694-78A8-4E48-9A32-0B8B178A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23A1-55CC-458B-8BDC-A4616442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F0D-F684-4E49-BE3A-4D1D9B37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875D-FE78-4C60-86DE-71FD4A71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3401-A52A-4020-9B36-A2008CC3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FB52-DBD3-47AC-A533-70BB9FA7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13B5-EA03-497C-BE88-08E1E68D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8AD5-3F38-4F4D-86FD-8883CD15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A52-0E0D-4D45-9AA1-347D712D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9D3-EBB7-48DF-9CEC-570E04CB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312-C82B-4B7C-87C3-4ECD9064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607-4056-4EEB-96D7-6E306F6D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5A1-D868-4BD8-816D-86FC4BC4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F1E-0AE7-4758-BE6E-6C847330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02A-FF37-4BBC-BAF8-79E246E5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C3CD-BCC4-46BF-92A6-3FBDBEF076F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279B-4597-496E-BEA9-3BC1831B3B6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hatu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371600" y="1143000"/>
            <a:ext cx="693432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陶罐和铁罐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38862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48520" y="4876920"/>
            <a:ext cx="190476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2ec14"/>
                  </a:solidFill>
                  <a:miter/>
                </a:ln>
                <a:solidFill>
                  <a:srgbClr val="e2ec14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陶罐</a:t>
            </a:r>
            <a:endParaRPr b="0" lang="en-US" sz="2400" spc="1" strike="noStrike">
              <a:ln w="12600">
                <a:solidFill>
                  <a:srgbClr val="e2ec14"/>
                </a:solidFill>
                <a:miter/>
              </a:ln>
              <a:solidFill>
                <a:srgbClr val="e2ec14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19520" y="4495680"/>
            <a:ext cx="190476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铁罐</a:t>
            </a:r>
            <a:endParaRPr b="0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7760" y="838080"/>
            <a:ext cx="2819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ahoma"/>
                <a:ea typeface="隶书"/>
              </a:rPr>
              <a:t>自读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05740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１、你想从课文中了解什么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隶书"/>
                <a:ea typeface="隶书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20037922184848276" descr=""/>
          <p:cNvPicPr/>
          <p:nvPr/>
        </p:nvPicPr>
        <p:blipFill>
          <a:blip r:embed="rId2"/>
          <a:stretch/>
        </p:blipFill>
        <p:spPr>
          <a:xfrm>
            <a:off x="0" y="7621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045" descr=""/>
          <p:cNvPicPr/>
          <p:nvPr/>
        </p:nvPicPr>
        <p:blipFill>
          <a:blip r:embed="rId3"/>
          <a:stretch/>
        </p:blipFill>
        <p:spPr>
          <a:xfrm>
            <a:off x="6477120" y="53352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107" name="002" descr=""/>
          <p:cNvPicPr/>
          <p:nvPr/>
        </p:nvPicPr>
        <p:blipFill>
          <a:blip r:embed="rId4"/>
          <a:stretch/>
        </p:blipFill>
        <p:spPr>
          <a:xfrm>
            <a:off x="1143000" y="5105520"/>
            <a:ext cx="7391520" cy="1218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43000" y="2971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　　打算怎样解决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8862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２、用自己喜欢的方式读课文，在课文里面找答案。</a:t>
            </a: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33920" y="617040"/>
            <a:ext cx="520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隶书"/>
              </a:rPr>
              <a:t>自悟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从铁罐对陶罐所说的话中你体会到什么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陶罐听了铁罐的话之后表现出什么样的态度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181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你觉得陶罐怎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GIF19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GIF-406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83844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GIF074" descr=""/>
          <p:cNvPicPr/>
          <p:nvPr/>
        </p:nvPicPr>
        <p:blipFill>
          <a:blip r:embed="rId4"/>
          <a:stretch/>
        </p:blipFill>
        <p:spPr>
          <a:xfrm>
            <a:off x="4876920" y="5181480"/>
            <a:ext cx="609480" cy="625680"/>
          </a:xfrm>
          <a:prstGeom prst="rect">
            <a:avLst/>
          </a:prstGeom>
          <a:ln w="0">
            <a:noFill/>
          </a:ln>
        </p:spPr>
      </p:pic>
      <p:pic>
        <p:nvPicPr>
          <p:cNvPr id="116" name="gb" descr=""/>
          <p:cNvPicPr/>
          <p:nvPr/>
        </p:nvPicPr>
        <p:blipFill>
          <a:blip r:embed="rId5"/>
          <a:stretch/>
        </p:blipFill>
        <p:spPr>
          <a:xfrm>
            <a:off x="304920" y="3581280"/>
            <a:ext cx="91440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GIF-469" descr=""/>
          <p:cNvPicPr/>
          <p:nvPr/>
        </p:nvPicPr>
        <p:blipFill>
          <a:blip r:embed="rId6"/>
          <a:stretch/>
        </p:blipFill>
        <p:spPr>
          <a:xfrm>
            <a:off x="6858000" y="533520"/>
            <a:ext cx="19051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920" y="15235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陶罐　铁罐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47920" y="2514600"/>
            <a:ext cx="3200400" cy="1715760"/>
            <a:chOff x="1447920" y="2514600"/>
            <a:chExt cx="3200400" cy="1715760"/>
          </a:xfrm>
        </p:grpSpPr>
        <p:sp>
          <p:nvSpPr>
            <p:cNvPr id="120" name=""/>
            <p:cNvSpPr/>
            <p:nvPr/>
          </p:nvSpPr>
          <p:spPr>
            <a:xfrm>
              <a:off x="1447920" y="2514600"/>
              <a:ext cx="1371600" cy="1715760"/>
            </a:xfrm>
            <a:custGeom>
              <a:avLst/>
              <a:gdLst>
                <a:gd name="textAreaLeft" fmla="*/ 183600 w 1371600"/>
                <a:gd name="textAreaRight" fmla="*/ 1188000 w 1371600"/>
                <a:gd name="textAreaTop" fmla="*/ 300240 h 1715760"/>
                <a:gd name="textAreaBottom" fmla="*/ 1244160 h 17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120" y="345816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cc"/>
                  </a:solidFill>
                  <a:latin typeface="宋体"/>
                  <a:ea typeface="隶书"/>
                </a:rPr>
                <a:t>谦虚</a:t>
              </a:r>
              <a:r>
                <a:rPr b="1" lang="zh-CN" sz="4400" spc="-1" strike="noStrike">
                  <a:solidFill>
                    <a:srgbClr val="ff33cc"/>
                  </a:solidFill>
                  <a:latin typeface="Times New Roman"/>
                  <a:ea typeface="隶书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48320" y="2362320"/>
            <a:ext cx="3047760" cy="1824840"/>
            <a:chOff x="4648320" y="2362320"/>
            <a:chExt cx="3047760" cy="1824840"/>
          </a:xfrm>
        </p:grpSpPr>
        <p:sp>
          <p:nvSpPr>
            <p:cNvPr id="123" name=""/>
            <p:cNvSpPr/>
            <p:nvPr/>
          </p:nvSpPr>
          <p:spPr>
            <a:xfrm>
              <a:off x="6324480" y="2362320"/>
              <a:ext cx="1371600" cy="1818000"/>
            </a:xfrm>
            <a:custGeom>
              <a:avLst/>
              <a:gdLst>
                <a:gd name="textAreaLeft" fmla="*/ 183600 w 1371600"/>
                <a:gd name="textAreaRight" fmla="*/ 1188000 w 1371600"/>
                <a:gd name="textAreaTop" fmla="*/ 317880 h 1818000"/>
                <a:gd name="textAreaBottom" fmla="*/ 1317960 h 18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8320" y="336204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傲慢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4920" y="4495680"/>
            <a:ext cx="3657240" cy="1976760"/>
            <a:chOff x="304920" y="4495680"/>
            <a:chExt cx="3657240" cy="1976760"/>
          </a:xfrm>
        </p:grpSpPr>
        <p:sp>
          <p:nvSpPr>
            <p:cNvPr id="126" name=""/>
            <p:cNvSpPr/>
            <p:nvPr/>
          </p:nvSpPr>
          <p:spPr>
            <a:xfrm>
              <a:off x="304920" y="5154480"/>
              <a:ext cx="325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cc"/>
                  </a:solidFill>
                  <a:latin typeface="宋体"/>
                  <a:ea typeface="隶书"/>
                </a:rPr>
                <a:t>光洁</a:t>
              </a:r>
              <a:r>
                <a:rPr b="1" lang="zh-CN" sz="4400" spc="-1" strike="noStrike">
                  <a:solidFill>
                    <a:srgbClr val="ff33cc"/>
                  </a:solidFill>
                  <a:latin typeface="Times New Roman"/>
                  <a:ea typeface="隶书"/>
                </a:rPr>
                <a:t> </a:t>
              </a:r>
              <a:r>
                <a:rPr b="1" lang="zh-CN" sz="4400" spc="-1" strike="noStrike">
                  <a:solidFill>
                    <a:srgbClr val="ff33cc"/>
                  </a:solidFill>
                  <a:latin typeface="宋体"/>
                  <a:ea typeface="隶书"/>
                </a:rPr>
                <a:t>朴素</a:t>
              </a:r>
              <a:r>
                <a:rPr b="1" lang="zh-CN" sz="4400" spc="-1" strike="noStrike">
                  <a:solidFill>
                    <a:srgbClr val="ff33cc"/>
                  </a:solidFill>
                  <a:latin typeface="Times New Roman"/>
                  <a:ea typeface="隶书"/>
                </a:rPr>
                <a:t> </a:t>
              </a:r>
              <a:r>
                <a:rPr b="1" lang="zh-CN" sz="4400" spc="-1" strike="noStrike">
                  <a:solidFill>
                    <a:srgbClr val="ff33cc"/>
                  </a:solidFill>
                  <a:latin typeface="宋体"/>
                  <a:ea typeface="隶书"/>
                </a:rPr>
                <a:t>美观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85160" y="4495680"/>
              <a:ext cx="477000" cy="1976760"/>
            </a:xfrm>
            <a:prstGeom prst="leftArrowCallout">
              <a:avLst>
                <a:gd name="adj1" fmla="val 103613"/>
                <a:gd name="adj2" fmla="val 103604"/>
                <a:gd name="adj3" fmla="val 16667"/>
                <a:gd name="adj4" fmla="val 66673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257800" y="4495680"/>
            <a:ext cx="3276720" cy="1981080"/>
            <a:chOff x="5257800" y="4495680"/>
            <a:chExt cx="3276720" cy="1981080"/>
          </a:xfrm>
        </p:grpSpPr>
        <p:sp>
          <p:nvSpPr>
            <p:cNvPr id="129" name=""/>
            <p:cNvSpPr/>
            <p:nvPr/>
          </p:nvSpPr>
          <p:spPr>
            <a:xfrm>
              <a:off x="5791320" y="5156280"/>
              <a:ext cx="274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不复存在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4495680"/>
              <a:ext cx="380880" cy="1981080"/>
            </a:xfrm>
            <a:prstGeom prst="rightArrowCallout">
              <a:avLst>
                <a:gd name="adj1" fmla="val 130045"/>
                <a:gd name="adj2" fmla="val 130033"/>
                <a:gd name="adj3" fmla="val 16667"/>
                <a:gd name="adj4" fmla="val 6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819520" y="380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自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20030908121057309772" descr=""/>
          <p:cNvPicPr/>
          <p:nvPr/>
        </p:nvPicPr>
        <p:blipFill>
          <a:blip r:embed="rId2"/>
          <a:stretch/>
        </p:blipFill>
        <p:spPr>
          <a:xfrm>
            <a:off x="0" y="838080"/>
            <a:ext cx="1981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480" y="6170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隶书"/>
              </a:rPr>
              <a:t>身临其境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3581280"/>
            <a:ext cx="8763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你喜欢陶罐还是铁罐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选择自己感兴趣的角色，表演课本剧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20035111349299204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7162920" cy="990360"/>
          </a:xfrm>
          <a:prstGeom prst="rect">
            <a:avLst/>
          </a:prstGeom>
          <a:ln w="0">
            <a:noFill/>
          </a:ln>
        </p:spPr>
      </p:pic>
      <p:pic>
        <p:nvPicPr>
          <p:cNvPr id="136" name="097" descr=""/>
          <p:cNvPicPr/>
          <p:nvPr/>
        </p:nvPicPr>
        <p:blipFill>
          <a:blip r:embed="rId3"/>
          <a:stretch/>
        </p:blipFill>
        <p:spPr>
          <a:xfrm>
            <a:off x="380880" y="0"/>
            <a:ext cx="84582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38098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教师寄语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240" y="2438280"/>
            <a:ext cx="7580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隶书"/>
              </a:rPr>
              <a:t>人人都有长处和短处，要看别人的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长处</a:t>
            </a:r>
            <a:r>
              <a:rPr b="0" lang="zh-CN" sz="4400" spc="-1" strike="noStrike">
                <a:solidFill>
                  <a:srgbClr val="3333cc"/>
                </a:solidFill>
                <a:latin typeface="Tahoma"/>
                <a:ea typeface="隶书"/>
              </a:rPr>
              <a:t>，正视自己的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短处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6192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007" descr=""/>
          <p:cNvPicPr/>
          <p:nvPr/>
        </p:nvPicPr>
        <p:blipFill>
          <a:blip r:embed="rId2"/>
          <a:stretch/>
        </p:blipFill>
        <p:spPr>
          <a:xfrm>
            <a:off x="3124080" y="5181480"/>
            <a:ext cx="2895840" cy="838440"/>
          </a:xfrm>
          <a:prstGeom prst="rect">
            <a:avLst/>
          </a:prstGeom>
          <a:ln w="0">
            <a:noFill/>
          </a:ln>
        </p:spPr>
      </p:pic>
      <p:pic>
        <p:nvPicPr>
          <p:cNvPr id="141" name="20031017143325254" descr=""/>
          <p:cNvPicPr/>
          <p:nvPr/>
        </p:nvPicPr>
        <p:blipFill>
          <a:blip r:embed="rId3"/>
          <a:stretch/>
        </p:blipFill>
        <p:spPr>
          <a:xfrm>
            <a:off x="6477120" y="533520"/>
            <a:ext cx="2286000" cy="1253880"/>
          </a:xfrm>
          <a:prstGeom prst="rect">
            <a:avLst/>
          </a:prstGeom>
          <a:ln w="0">
            <a:noFill/>
          </a:ln>
        </p:spPr>
      </p:pic>
      <p:pic>
        <p:nvPicPr>
          <p:cNvPr id="142" name="20039119482239695" descr=""/>
          <p:cNvPicPr/>
          <p:nvPr/>
        </p:nvPicPr>
        <p:blipFill>
          <a:blip r:embed="rId4"/>
          <a:stretch/>
        </p:blipFill>
        <p:spPr>
          <a:xfrm>
            <a:off x="-1828800" y="380880"/>
            <a:ext cx="5181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zf</cp:lastModifiedBy>
  <dcterms:modified xsi:type="dcterms:W3CDTF">2003-11-04T06:45:31Z</dcterms:modified>
  <cp:revision>12</cp:revision>
  <dc:subject/>
  <dc:title>PowerPoint Presentation</dc:title>
</cp:coreProperties>
</file>