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D05-E7E1-49C5-9F8B-16B8BBA0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E88-2116-47C6-97EC-84692DF1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BB5-9571-4173-BF5A-24A63078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A1D-B51E-4B14-BD3C-F9D2DE72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DE2-BB36-4086-9B10-DAD71BCB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EA0-5C45-45A6-B0CB-008F7E9F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D96-723F-413B-8A4C-2956B3DB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F5E-EE64-4783-BBC9-D99D5775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580-1F4A-46E6-B615-B8ACDBB1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499-5844-4861-B0BA-188793E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132-7C9D-4ADF-A432-4EEE9431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388-571D-4555-B336-59635069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E43-0CAE-4FC9-9455-35535222EB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atu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971800" y="1905120"/>
            <a:ext cx="5867280" cy="4040280"/>
            <a:chOff x="2971800" y="1905120"/>
            <a:chExt cx="5867280" cy="4040280"/>
          </a:xfrm>
        </p:grpSpPr>
        <p:sp>
          <p:nvSpPr>
            <p:cNvPr id="43" name=""/>
            <p:cNvSpPr/>
            <p:nvPr/>
          </p:nvSpPr>
          <p:spPr>
            <a:xfrm>
              <a:off x="6553080" y="4403880"/>
              <a:ext cx="228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</a:rPr>
                <a:t>陶罐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48320" y="1905120"/>
              <a:ext cx="1295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cc"/>
                  </a:solidFill>
                  <a:latin typeface="Times New Roman"/>
                </a:rPr>
                <a:t>和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1800" y="4937040"/>
              <a:ext cx="228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</a:rPr>
                <a:t>铁罐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54756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生字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819520"/>
            <a:ext cx="762012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ff00"/>
                </a:solidFill>
                <a:uFillTx/>
                <a:latin typeface="Times New Roman"/>
                <a:hlinkClick r:id="rId1" action="ppaction://hlinksldjump"/>
              </a:rPr>
              <a:t>奚</a:t>
            </a:r>
            <a:r>
              <a:rPr b="0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0" lang="zh-CN" sz="66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谦</a:t>
            </a:r>
            <a:r>
              <a:rPr b="0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0" lang="zh-CN" sz="66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懦</a:t>
            </a:r>
            <a:r>
              <a:rPr b="0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  睦  耻  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76212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9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陶罐和铁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447920" y="1905120"/>
            <a:ext cx="3200400" cy="1663200"/>
            <a:chOff x="1447920" y="1905120"/>
            <a:chExt cx="3200400" cy="1663200"/>
          </a:xfrm>
        </p:grpSpPr>
        <p:sp>
          <p:nvSpPr>
            <p:cNvPr id="52" name=""/>
            <p:cNvSpPr/>
            <p:nvPr/>
          </p:nvSpPr>
          <p:spPr>
            <a:xfrm>
              <a:off x="1447920" y="1905120"/>
              <a:ext cx="1371600" cy="1523880"/>
            </a:xfrm>
            <a:custGeom>
              <a:avLst/>
              <a:gdLst>
                <a:gd name="textAreaLeft" fmla="*/ 183600 w 1371600"/>
                <a:gd name="textAreaRight" fmla="*/ 1188000 w 13716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74320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宋体"/>
                </a:rPr>
                <a:t>谦虚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648320" y="1905120"/>
            <a:ext cx="3047760" cy="1663200"/>
            <a:chOff x="4648320" y="1905120"/>
            <a:chExt cx="3047760" cy="1663200"/>
          </a:xfrm>
        </p:grpSpPr>
        <p:sp>
          <p:nvSpPr>
            <p:cNvPr id="55" name=""/>
            <p:cNvSpPr/>
            <p:nvPr/>
          </p:nvSpPr>
          <p:spPr>
            <a:xfrm>
              <a:off x="6324480" y="1905120"/>
              <a:ext cx="1371600" cy="1523880"/>
            </a:xfrm>
            <a:custGeom>
              <a:avLst/>
              <a:gdLst>
                <a:gd name="textAreaLeft" fmla="*/ 183600 w 1371600"/>
                <a:gd name="textAreaRight" fmla="*/ 1188000 w 13716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274320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宋体"/>
                </a:rPr>
                <a:t>傲慢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57200" y="3657600"/>
            <a:ext cx="3505320" cy="1600200"/>
            <a:chOff x="457200" y="3657600"/>
            <a:chExt cx="3505320" cy="1600200"/>
          </a:xfrm>
        </p:grpSpPr>
        <p:sp>
          <p:nvSpPr>
            <p:cNvPr id="58" name=""/>
            <p:cNvSpPr/>
            <p:nvPr/>
          </p:nvSpPr>
          <p:spPr>
            <a:xfrm>
              <a:off x="457200" y="419112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宋体"/>
                </a:rPr>
                <a:t>光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宋体"/>
                </a:rPr>
                <a:t>朴素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宋体"/>
                </a:rPr>
                <a:t>美观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3657600"/>
              <a:ext cx="457200" cy="1600200"/>
            </a:xfrm>
            <a:prstGeom prst="leftArrowCallout">
              <a:avLst>
                <a:gd name="adj1" fmla="val 87508"/>
                <a:gd name="adj2" fmla="val 87500"/>
                <a:gd name="adj3" fmla="val 16667"/>
                <a:gd name="adj4" fmla="val 666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57800" y="3657600"/>
            <a:ext cx="3276720" cy="1600200"/>
            <a:chOff x="5257800" y="3657600"/>
            <a:chExt cx="3276720" cy="1600200"/>
          </a:xfrm>
        </p:grpSpPr>
        <p:sp>
          <p:nvSpPr>
            <p:cNvPr id="61" name=""/>
            <p:cNvSpPr/>
            <p:nvPr/>
          </p:nvSpPr>
          <p:spPr>
            <a:xfrm>
              <a:off x="5791320" y="41911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不复存在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57800" y="3657600"/>
              <a:ext cx="380880" cy="1600200"/>
            </a:xfrm>
            <a:prstGeom prst="rightArrowCallout">
              <a:avLst>
                <a:gd name="adj1" fmla="val 105043"/>
                <a:gd name="adj2" fmla="val 105033"/>
                <a:gd name="adj3" fmla="val 16667"/>
                <a:gd name="adj4" fmla="val 6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渣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35268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两只罐子遗落在荒凉的场地上，上面覆盖了厚厚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渣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尘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羞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320040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你在一起，我感到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羞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你算什么东西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6765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和睦相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52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还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和睦相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吧，有什么可吵的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懦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3526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确实不敢碰你，但并不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懦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谦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3526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谦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陶罐回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16765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奚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3526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骄傲的铁罐看不起陶罐，常常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奚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8:05:55Z</dcterms:created>
  <dc:creator>wangliping</dc:creator>
  <dc:description/>
  <dc:language>en-US</dc:language>
  <cp:lastModifiedBy>wangliping</cp:lastModifiedBy>
  <dcterms:modified xsi:type="dcterms:W3CDTF">2002-10-16T08:53:00Z</dcterms:modified>
  <cp:revision>2</cp:revision>
  <dc:subject/>
  <dc:title>PowerPoint 演示文稿</dc:title>
</cp:coreProperties>
</file>