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gif" ContentType="image/gif"/>
  <Override PartName="/ppt/media/image15.gif" ContentType="image/gif"/>
  <Override PartName="/ppt/media/image14.png" ContentType="image/png"/>
  <Override PartName="/ppt/media/image5.gif" ContentType="image/gif"/>
  <Override PartName="/ppt/media/image8.wmf" ContentType="image/x-wmf"/>
  <Override PartName="/ppt/media/image9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58D-E366-47F6-9F6F-22DAD9C5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BE0-09E6-4EC6-A486-A45F58DB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7DC-96B7-4BC9-BDAF-6ECDF0A4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884-C534-46CE-8D00-DBEFED67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7470-6BA3-4E34-8913-3D4BF1E8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D222-6219-4F86-8878-E2505B36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FAC7-5E70-4355-B582-2A6C4F42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A16C-DD03-4665-87BF-A59D225D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9A97-B19D-4620-8210-B7E6DBC3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6A33-FDE9-4ED0-AB3C-FEEF0CB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C13C-95F6-48A8-973E-9B1B5E6F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E63-E242-411D-B23E-7CF6DCB4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78B9-11C1-4C1F-96E3-6713CF1A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5F3D-8977-467C-9EC8-F0F9173A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52DE-F923-422D-9403-E06E2D5E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3A14-ADF7-4EEE-ADA7-6776E9F7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6D56-13A2-450E-A7F0-B206B0C1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8D8-1696-4F28-A859-953AD82E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960-9701-4A98-AF70-8AA3E35E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AB2-B9C7-4B58-B6B1-9DD4B7B8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0C8-A391-4335-84EC-46D4D721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924-2C40-410F-9C92-6F9CF9AA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E06-FB63-4C0E-8B25-98C3C64F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069-7EB7-40F0-BD85-6363503A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DE56-D0C1-4E4F-8335-9AAB8493CD0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964A-CDEA-4AE7-9780-3FBBF3ED66B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r_05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j0095748" descr=""/>
          <p:cNvPicPr/>
          <p:nvPr/>
        </p:nvPicPr>
        <p:blipFill>
          <a:blip r:embed="rId2"/>
          <a:stretch/>
        </p:blipFill>
        <p:spPr>
          <a:xfrm>
            <a:off x="0" y="838080"/>
            <a:ext cx="7095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Rt_007" descr=""/>
          <p:cNvPicPr/>
          <p:nvPr/>
        </p:nvPicPr>
        <p:blipFill>
          <a:blip r:embed="rId3"/>
          <a:stretch/>
        </p:blipFill>
        <p:spPr>
          <a:xfrm>
            <a:off x="3429000" y="2778120"/>
            <a:ext cx="2209680" cy="1090440"/>
          </a:xfrm>
          <a:prstGeom prst="rect">
            <a:avLst/>
          </a:prstGeom>
          <a:ln w="0">
            <a:noFill/>
          </a:ln>
        </p:spPr>
      </p:pic>
      <p:pic>
        <p:nvPicPr>
          <p:cNvPr id="90" name="太阳13" descr=""/>
          <p:cNvPicPr/>
          <p:nvPr/>
        </p:nvPicPr>
        <p:blipFill>
          <a:blip r:embed="rId4"/>
          <a:stretch/>
        </p:blipFill>
        <p:spPr>
          <a:xfrm>
            <a:off x="6477120" y="533520"/>
            <a:ext cx="233496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Rt_007" descr=""/>
          <p:cNvPicPr/>
          <p:nvPr/>
        </p:nvPicPr>
        <p:blipFill>
          <a:blip r:embed="rId5"/>
          <a:stretch/>
        </p:blipFill>
        <p:spPr>
          <a:xfrm>
            <a:off x="1447920" y="1523880"/>
            <a:ext cx="1981080" cy="97812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1143000" y="4800600"/>
            <a:ext cx="6172200" cy="2057400"/>
            <a:chOff x="1143000" y="4800600"/>
            <a:chExt cx="6172200" cy="2057400"/>
          </a:xfrm>
        </p:grpSpPr>
        <p:grpSp>
          <p:nvGrpSpPr>
            <p:cNvPr id="93" name=""/>
            <p:cNvGrpSpPr/>
            <p:nvPr/>
          </p:nvGrpSpPr>
          <p:grpSpPr>
            <a:xfrm>
              <a:off x="1143000" y="4800600"/>
              <a:ext cx="5257800" cy="2057400"/>
              <a:chOff x="1143000" y="4800600"/>
              <a:chExt cx="5257800" cy="2057400"/>
            </a:xfrm>
          </p:grpSpPr>
          <p:pic>
            <p:nvPicPr>
              <p:cNvPr id="94" name="AG00142_" descr=""/>
              <p:cNvPicPr/>
              <p:nvPr/>
            </p:nvPicPr>
            <p:blipFill>
              <a:blip r:embed="rId6"/>
              <a:stretch/>
            </p:blipFill>
            <p:spPr>
              <a:xfrm>
                <a:off x="3733920" y="4800600"/>
                <a:ext cx="99036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AG00142_" descr=""/>
              <p:cNvPicPr/>
              <p:nvPr/>
            </p:nvPicPr>
            <p:blipFill>
              <a:blip r:embed="rId7"/>
              <a:stretch/>
            </p:blipFill>
            <p:spPr>
              <a:xfrm>
                <a:off x="4495680" y="4800600"/>
                <a:ext cx="99072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AG00142_" descr=""/>
              <p:cNvPicPr/>
              <p:nvPr/>
            </p:nvPicPr>
            <p:blipFill>
              <a:blip r:embed="rId8"/>
              <a:stretch/>
            </p:blipFill>
            <p:spPr>
              <a:xfrm>
                <a:off x="5410080" y="4800600"/>
                <a:ext cx="99072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AG00142_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3000" y="4800600"/>
                <a:ext cx="99072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AG00142_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81080" y="4800600"/>
                <a:ext cx="99072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AG00142_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19520" y="4800600"/>
                <a:ext cx="990360" cy="205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0" name="AG00142_" descr=""/>
            <p:cNvPicPr/>
            <p:nvPr/>
          </p:nvPicPr>
          <p:blipFill>
            <a:blip r:embed="rId12"/>
            <a:stretch/>
          </p:blipFill>
          <p:spPr>
            <a:xfrm>
              <a:off x="6324480" y="4800600"/>
              <a:ext cx="99072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3733920" y="0"/>
            <a:ext cx="3124080" cy="1371600"/>
          </a:xfrm>
          <a:prstGeom prst="cloudCallout">
            <a:avLst>
              <a:gd name="adj1" fmla="val 6250"/>
              <a:gd name="adj2" fmla="val 1226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隶书"/>
              </a:rPr>
              <a:t>花儿得救了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0"/>
            <a:ext cx="2971800" cy="1143000"/>
          </a:xfrm>
          <a:prstGeom prst="wedgeEllipseCallout">
            <a:avLst>
              <a:gd name="adj1" fmla="val -26388"/>
              <a:gd name="adj2" fmla="val 65555"/>
            </a:avLst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花仙子来了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523880" y="1295280"/>
            <a:ext cx="65534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宋体"/>
              </a:rPr>
              <a:t>陶罐和铁罐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230652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ffff"/>
                </a:solidFill>
                <a:latin typeface="Times New Roman"/>
              </a:rPr>
              <a:t>说到盛东西，我不见得比你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差。再说……”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37160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5050"/>
                </a:solidFill>
                <a:latin typeface="Times New Roman"/>
                <a:ea typeface="隶书"/>
              </a:rPr>
              <a:t>陶罐抓住问题的实质，摆事实，讲道理。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38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铁罐恼怒了，“你怎么敢和我相提并论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3962520"/>
            <a:ext cx="716292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5050"/>
                </a:solidFill>
                <a:latin typeface="Times New Roman"/>
                <a:ea typeface="隶书"/>
              </a:rPr>
              <a:t>铁罐越来越无视陶罐，蛮横无理，充分暴露了铁罐只看到自己的长处而看不到别人的长处的缺点。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　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24080"/>
            <a:ext cx="9144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它，不知道在什么年代完全氧化，早已无踪无影了。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22640"/>
            <a:ext cx="9144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5050"/>
                </a:solidFill>
                <a:latin typeface="Times New Roman"/>
                <a:ea typeface="隶书"/>
              </a:rPr>
              <a:t>课文的最后这句话指出了找不到铁罐的原因，交代了铁罐的下场。“早已”说明铁罐经不住腐蚀，早就毁坏了。“氧化”，化学专用术语，指物质跟氧化合，铁与氧化合使铁生锈以至于腐烂。在这里铁罐的可悲下场和陶罐不朽的文物价值形成了鲜明的对比。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r_051a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2480" y="23623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Image29286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238880" cy="4343400"/>
          </a:xfrm>
          <a:prstGeom prst="rect">
            <a:avLst/>
          </a:prstGeom>
          <a:ln w="57240">
            <a:solidFill>
              <a:srgbClr val="d31db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3733920" cy="609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479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这篇课文是一则寓言，写的是国王御厨里的铁罐自恃坚硬，瞧不起陶罐，埋在土里许多年以后，陶罐仍然光洁如新，而铁罐却完全氧化，不复存在了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04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说说文章的主要内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书9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120024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age29284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Times New Roman"/>
              </a:rPr>
              <a:t>写作特点：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Times New Roman"/>
              </a:rPr>
              <a:t>　　这篇寓言通过浅显的故事说明了一个深刻的道理。文章运用拟人的方法，对话的形式展开故事情节，读起来感到亲切、自然、生动。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这则寓言告诉我们什么道理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　　教师引导学生说出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90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  <a:ea typeface="隶书"/>
              </a:rPr>
              <a:t>要学会全面地看问题，对别人要知礼懂理，懂得要多发现别人的长处，要正视自己的短处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191120"/>
            <a:ext cx="9144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500" spc="-1" strike="noStrike">
                <a:solidFill>
                  <a:srgbClr val="ff5050"/>
                </a:solidFill>
                <a:latin typeface="Times New Roman"/>
              </a:rPr>
              <a:t>御厨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给国王做饭的厨房。御，封建社会指与皇帝有关的事物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0880"/>
            <a:ext cx="914400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500" spc="-1" strike="noStrike">
                <a:solidFill>
                  <a:srgbClr val="ff5050"/>
                </a:solidFill>
                <a:latin typeface="Times New Roman"/>
              </a:rPr>
              <a:t>奚落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用尖刻的话数说别人的短处，使人难堪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32280"/>
            <a:ext cx="9144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500" spc="-1" strike="noStrike">
                <a:solidFill>
                  <a:srgbClr val="ff5050"/>
                </a:solidFill>
                <a:latin typeface="Times New Roman"/>
              </a:rPr>
              <a:t>谦虚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虚心，不自满，肯接受批评</a:t>
            </a:r>
            <a:r>
              <a:rPr b="1" lang="zh-CN" sz="15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905120"/>
            <a:ext cx="91440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500" spc="-1" strike="noStrike">
                <a:solidFill>
                  <a:srgbClr val="ff5050"/>
                </a:solidFill>
                <a:latin typeface="Times New Roman"/>
              </a:rPr>
              <a:t>轻蔑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轻视，不放在眼里的意思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762120"/>
            <a:ext cx="9144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500" spc="-1" strike="noStrike">
                <a:solidFill>
                  <a:srgbClr val="ff5050"/>
                </a:solidFill>
                <a:latin typeface="Times New Roman"/>
              </a:rPr>
              <a:t>轻蔑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轻视，不放在眼里的意思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86000"/>
            <a:ext cx="914400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900" spc="-1" strike="noStrike">
                <a:solidFill>
                  <a:srgbClr val="ff5050"/>
                </a:solidFill>
                <a:latin typeface="Times New Roman"/>
              </a:rPr>
              <a:t>懦弱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软弱无能，不坚强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809880"/>
            <a:ext cx="914400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900" spc="-1" strike="noStrike">
                <a:solidFill>
                  <a:srgbClr val="ff5050"/>
                </a:solidFill>
                <a:latin typeface="Times New Roman"/>
              </a:rPr>
              <a:t>和睦相处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相处融洽友爱；不争吵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100" spc="-1" strike="noStrike">
                <a:solidFill>
                  <a:srgbClr val="ff5050"/>
                </a:solidFill>
                <a:latin typeface="Times New Roman"/>
              </a:rPr>
              <a:t>羞耻</a:t>
            </a:r>
            <a:r>
              <a:rPr b="1" lang="zh-CN" sz="41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100" spc="-1" strike="noStrike">
                <a:solidFill>
                  <a:srgbClr val="ffffff"/>
                </a:solidFill>
                <a:latin typeface="Times New Roman"/>
              </a:rPr>
              <a:t>不光彩，不体面。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657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000" spc="-1" strike="noStrike">
                <a:solidFill>
                  <a:srgbClr val="ff5050"/>
                </a:solidFill>
                <a:latin typeface="Times New Roman"/>
              </a:rPr>
              <a:t>氧化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物质跟氧化合。如金属生锈、煤燃烧等，都是氧化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19320"/>
            <a:ext cx="8839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zh-CN" sz="4900" spc="-1" strike="noStrike">
                <a:solidFill>
                  <a:srgbClr val="ff5050"/>
                </a:solidFill>
                <a:latin typeface="Times New Roman"/>
              </a:rPr>
              <a:t>相提并论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把不同的人或不同的事物混在一起来看待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R_06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51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0" y="228600"/>
            <a:ext cx="2827080" cy="2133360"/>
            <a:chOff x="0" y="228600"/>
            <a:chExt cx="2827080" cy="2133360"/>
          </a:xfrm>
        </p:grpSpPr>
        <p:graphicFrame>
          <p:nvGraphicFramePr>
            <p:cNvPr id="117" name=""/>
            <p:cNvGraphicFramePr/>
            <p:nvPr/>
          </p:nvGraphicFramePr>
          <p:xfrm>
            <a:off x="0" y="894960"/>
            <a:ext cx="2020680" cy="146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94960"/>
                      <a:ext cx="2020680" cy="146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2642040" y="228600"/>
              <a:ext cx="18504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0" name="N_006" descr=""/>
          <p:cNvPicPr/>
          <p:nvPr/>
        </p:nvPicPr>
        <p:blipFill>
          <a:blip r:embed="rId4"/>
          <a:stretch/>
        </p:blipFill>
        <p:spPr>
          <a:xfrm>
            <a:off x="6858000" y="609480"/>
            <a:ext cx="1463760" cy="1590840"/>
          </a:xfrm>
          <a:prstGeom prst="rect">
            <a:avLst/>
          </a:prstGeom>
          <a:ln w="0">
            <a:noFill/>
          </a:ln>
        </p:spPr>
      </p:pic>
      <p:pic>
        <p:nvPicPr>
          <p:cNvPr id="121" name="Image2928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FR30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43000" y="1447920"/>
            <a:ext cx="655308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你敢碰我吗？陶罐子！”铁罐傲慢地问。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352680"/>
            <a:ext cx="7010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5050"/>
                </a:solidFill>
                <a:latin typeface="Times New Roman"/>
                <a:ea typeface="隶书"/>
              </a:rPr>
              <a:t>铁罐自恃坚硬，瞧不起怕碰易碎的陶罐，它开始对陶罐寻衅了。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900" spc="-1" strike="noStrike">
                <a:solidFill>
                  <a:srgbClr val="ffffff"/>
                </a:solidFill>
                <a:latin typeface="Times New Roman"/>
              </a:rPr>
              <a:t>和你在一起，我感到羞耻，你算什么东西！”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0"/>
            <a:ext cx="914400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5050"/>
                </a:solidFill>
                <a:latin typeface="Times New Roman"/>
                <a:ea typeface="隶书"/>
              </a:rPr>
              <a:t>铁罐无视陶罐，蛮横无理，充分暴露了铁罐只看到自己的长处而看不到别人的长处的缺点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　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94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1100" spc="-1" strike="noStrike">
                <a:solidFill>
                  <a:srgbClr val="0000ff"/>
                </a:solidFill>
                <a:latin typeface="Times New Roman"/>
              </a:rPr>
              <a:t>你敢碰我吗？陶罐子！”铁罐傲慢地问。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8088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44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04920"/>
            <a:ext cx="8458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我就知道你不敢，懦弱的东西！”铁罐说，带着更加轻蔑的神气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581280"/>
            <a:ext cx="815328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5050"/>
                </a:solidFill>
                <a:latin typeface="Times New Roman"/>
                <a:ea typeface="隶书"/>
              </a:rPr>
              <a:t>铁罐非常傲慢无礼，盲目自大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隶书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4419720"/>
            <a:ext cx="1581120" cy="2133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447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隶书"/>
              </a:rPr>
              <a:t>对于铁罐的无理取闹，陶罐表现出谦虚克制的态度。这句话是说，我的确不如你坚硬，不敢碰你，但这并不意味着惧怕你，也不意味着我软弱。“但……”是语意的转折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　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2860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我确实不敢碰你，但并不是懦弱。”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4:17:42Z</dcterms:created>
  <dc:creator>jsh</dc:creator>
  <dc:description/>
  <dc:language>en-US</dc:language>
  <cp:lastModifiedBy>jsh</cp:lastModifiedBy>
  <dcterms:modified xsi:type="dcterms:W3CDTF">2003-10-29T08:10:13Z</dcterms:modified>
  <cp:revision>33</cp:revision>
  <dc:subject/>
  <dc:title>PowerPoint 演示文稿</dc:title>
</cp:coreProperties>
</file>