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7FF-DDD5-4BB6-B418-2FB70EC1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EFE-BD89-4D25-86AA-8A96CA96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575-7A5C-49B3-80B4-272E04FF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7E3-75A4-4E54-A44E-950E623A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5C52-77B7-4B95-B57A-A61A1D61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3E95-040D-42D0-92B5-3A1EAAC7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E24D-65AC-4909-9BFE-5C25344C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1E3A-5462-4633-BA29-AD9593D2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1535-7931-4279-BC44-DD165C21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CFF5-4958-4A8F-A583-EB0CBE40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E836-2798-44B6-8072-5E86433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37E-1DDF-4551-AAD7-D8DB60AE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1856-CD7E-4BAF-8BC8-154C5A7F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FDD3-28E8-4C9C-A7D0-0350AE66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A4D6-0A79-412E-BEA4-1771E3BB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4E0D-2EAA-4087-8C7B-4F460F73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94F3-C530-4E64-BDE6-6BAD1705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23B-F0D6-4BD7-85D0-693647DD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759-31E4-431B-9A39-4639962D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90F-1102-4989-9986-6913D093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AE5-8FD9-4AD0-8B5E-AB5322A0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49E-0447-4860-96C4-CB5B8785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EBE-072F-4030-8ADA-581BF400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D12-29EA-4557-87F2-3137FE5B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908C-38CE-4AF7-97CE-396FD0D9C539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9416-CCD5-498D-B38A-E97ACDCB4E67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_x000b__x000c_"/>
              </a:rPr>
              <a:t>　</a:t>
            </a:r>
            <a:r>
              <a:rPr b="1" lang="zh-CN" sz="4400" spc="-1" strike="noStrike">
                <a:solidFill>
                  <a:srgbClr val="99cc99"/>
                </a:solidFill>
                <a:latin typeface="_x000b__x000c_"/>
              </a:rPr>
              <a:t>我国伟大的革命先行者。名文，字逸仙、后化名中山樵。广东东香山（今中山）人</a:t>
            </a:r>
            <a:r>
              <a:rPr b="1" lang="zh-CN" sz="4400" spc="-1" strike="noStrike">
                <a:solidFill>
                  <a:srgbClr val="99cc99"/>
                </a:solidFill>
                <a:latin typeface="Arial"/>
                <a:ea typeface="_x000b__x000c_"/>
              </a:rPr>
              <a:t>1892</a:t>
            </a:r>
            <a:r>
              <a:rPr b="1" lang="zh-CN" sz="4400" spc="-1" strike="noStrike">
                <a:solidFill>
                  <a:srgbClr val="99cc99"/>
                </a:solidFill>
                <a:latin typeface="_x000b__x000c_"/>
              </a:rPr>
              <a:t>年（清光绪十八年）在香港西医书院毕业后，行医于澳门、广州。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808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</a:t>
            </a:r>
            <a:r>
              <a:rPr b="1" i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孙   中    山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-360"/>
            <a:ext cx="89154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894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年上书李鸿章，提出革新政治主张，被拒绝，遂赴檀香山组织兴中会，提出了“振兴中华”的口号和“驱除鞑虏，恢复中国，创立合众政府”的政纲。次年在香港设机关，准备在广州起义未成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900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年派人至惠州（今属广东）三洲田发动起义，失败后继续在国外开展革命活动。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905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年在日本东京组成中国同盟会，被推为总理；确定“驱除鞑虏，恢复中华，建立民国，平均地权”的资产阶级革命政纲，提出三民主义学说；创办《民报》，宣传革命，同当时的中国改良派激烈论战。此后在国内外发展革命组织，联络华侨、会党和新军，多次发动武装起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911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年（宣统三年）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0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月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0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日武昌起义，各省纷纷响应。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2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月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29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日，被十七省代表在南京推选为中华民国临时大总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912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年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月</a:t>
            </a:r>
            <a:r>
              <a:rPr b="1" lang="zh-CN" sz="2400" spc="-1" strike="noStrike">
                <a:solidFill>
                  <a:srgbClr val="7aed77"/>
                </a:solidFill>
                <a:latin typeface="Arial"/>
                <a:ea typeface="_x000b__x000c_"/>
              </a:rPr>
              <a:t>1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日在南京宣布就职，建立中华民国临时政府，月底组成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14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在日本建立中华革命党，重举资产阶级革命旗帜，先后两次发表讨袁宣言。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17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段祺瑞解散国会，他在广州召开国会非常会议，组织护法军政府，当选为大元帅，誓师北伐。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18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因受桂系军阀和政学系的挟制，被迫去职，至上海。次年创办《建设》杂志，发表《实业计划》，并将中华革命党改组为中国一国民党。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20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回广东，次年就任非常大总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22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因陈炯明叛变，退居上海。屡经失败，陷入绝望境地。俄国十月革命的胜利和中国共产党的成立，给了他以新的希望。在中国共产党和苏俄共产党、列宁的帮助下，决心改组国民党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23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回到广州，重建大元帅府，次年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月召开中国国民党第一次全国代表大会，通过宣言，实行联俄、联共、扶助衣工的三大政策，把旧三民主义发展成为新三民主义；改组中国国民党成为工人、农民、小资产阶级和民族资产阶级的革命联盟。同年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1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月，他应邀北上讨论国是，提出“召开国民会议和废除不平等条约”两大号召，同帝国主义和北洋军阀段祺瑞、张作霖等作斗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925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3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12</a:t>
            </a:r>
            <a:r>
              <a:rPr b="1" lang="zh-CN" sz="2400" spc="-1" strike="noStrike">
                <a:solidFill>
                  <a:srgbClr val="7aed77"/>
                </a:solidFill>
                <a:latin typeface="宋体"/>
              </a:rPr>
              <a:t>日在北京逝世，遗嘱“必须唤起民众，及联合世界上以平等待我之民族，共同奋斗”。</a:t>
            </a:r>
            <a:r>
              <a:rPr b="1" lang="zh-CN" sz="2400" spc="-1" strike="noStrike">
                <a:solidFill>
                  <a:srgbClr val="7aed77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caiyan</cp:lastModifiedBy>
  <dcterms:modified xsi:type="dcterms:W3CDTF">2003-11-04T04:26:18Z</dcterms:modified>
  <cp:revision>5</cp:revision>
  <dc:subject/>
  <dc:title>PowerPoint Presentation</dc:title>
</cp:coreProperties>
</file>