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CAMERA.WAV" ContentType="audio/x-wav"/>
  <Override PartName="/ppt/media/LASER.WAV" ContentType="audio/x-wav"/>
  <Override PartName="/ppt/media/image5.png" ContentType="image/png"/>
  <Override PartName="/ppt/media/image2.png" ContentType="image/png"/>
  <Override PartName="/ppt/media/TYPE.WAV" ContentType="audio/x-wav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CF76-0288-4E0B-9EE2-DCF93F889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6A7C-A435-4BD3-AA6B-EFD082248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178A-2AEC-40E7-B8CA-16857F9AE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1755-9F5F-4315-96F8-14754BCB5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69D49-268D-4166-9C67-877F5BFA4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567C6-6776-41D8-9D47-9A4E79882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F9865-EBAD-4308-869E-147AA4C29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A3F88-8A33-4F63-B650-E1612C1D3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F28B8-C91D-42F7-A9CA-FFDF24E86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430D6-670E-42FF-B7C4-A96D043F9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E4B77-A7E3-42E6-9F40-66DCB1021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48D4-0394-439E-A0E2-D7DB64410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6B01F-8C77-4DE1-AEFD-C971FEC35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C4763-3F41-4B8A-81F4-91B648FCA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F0EC2-1F1B-4133-AB30-E8B9D49EF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F0B5A-3FF4-4E1C-9006-B6A47BA54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72151-1949-4117-81BC-99D29CBEA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6D46-0E92-4ACB-9D70-B51C24D37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D47F-F3CD-4755-85AB-E6BD641B8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121C-4FB0-4896-B74A-DC62FDF81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88E0-4039-4DF4-9E31-D574DAA0C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531A-A5B8-4A80-8E9C-2F6F8C8E9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C4FD-FE48-4DE2-AE71-0912238A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5905-0455-4B72-8468-42BA69DDD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08DFD-1C64-4F07-B931-684004EE32C5}" type="slidenum">
              <a:rPr b="0" lang="zh-CN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25DF6-BF98-46E7-945E-82948FF8769B}" type="slidenum">
              <a:rPr b="0" lang="zh-CN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audio" Target="../media/CAMERA.WAV"/><Relationship Id="rId4" Type="http://schemas.openxmlformats.org/officeDocument/2006/relationships/audio" Target="../media/LASER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audio" Target="../media/TYPE.WAV"/><Relationship Id="rId18" Type="http://schemas.openxmlformats.org/officeDocument/2006/relationships/audio" Target="../media/TYPE.WAV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audio" Target="../media/CAMERA.WAV"/><Relationship Id="rId4" Type="http://schemas.openxmlformats.org/officeDocument/2006/relationships/audio" Target="../media/LASER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2438280" y="685800"/>
            <a:ext cx="4267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不懂就问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66"/>
                </a:solidFill>
                <a:latin typeface="Impact"/>
              </a:rPr>
              <a:t>孙中山（</a:t>
            </a:r>
            <a:r>
              <a:rPr b="0" lang="zh-CN" sz="2800" spc="-1" strike="noStrike">
                <a:solidFill>
                  <a:srgbClr val="660066"/>
                </a:solidFill>
                <a:latin typeface="Impact"/>
              </a:rPr>
              <a:t>1866</a:t>
            </a:r>
            <a:r>
              <a:rPr b="0" lang="zh-CN" sz="2800" spc="-1" strike="noStrike">
                <a:solidFill>
                  <a:srgbClr val="660066"/>
                </a:solidFill>
                <a:latin typeface="Impact"/>
              </a:rPr>
              <a:t>一</a:t>
            </a:r>
            <a:r>
              <a:rPr b="0" lang="zh-CN" sz="2800" spc="-1" strike="noStrike">
                <a:solidFill>
                  <a:srgbClr val="660066"/>
                </a:solidFill>
                <a:latin typeface="Impact"/>
              </a:rPr>
              <a:t>1925</a:t>
            </a:r>
            <a:r>
              <a:rPr b="0" lang="zh-CN" sz="2800" spc="-1" strike="noStrike">
                <a:solidFill>
                  <a:srgbClr val="660066"/>
                </a:solidFill>
                <a:latin typeface="Impact"/>
              </a:rPr>
              <a:t>）：中国近代伟大的革命先行者。名文，字逸仙，广东省香山市（今中山市）人。曾提出“三民主义”，建立国民党。</a:t>
            </a:r>
            <a:r>
              <a:rPr b="0" lang="zh-CN" sz="2800" spc="-1" strike="noStrike">
                <a:solidFill>
                  <a:srgbClr val="660066"/>
                </a:solidFill>
                <a:latin typeface="Impact"/>
              </a:rPr>
              <a:t>1925</a:t>
            </a:r>
            <a:r>
              <a:rPr b="0" lang="zh-CN" sz="2800" spc="-1" strike="noStrike">
                <a:solidFill>
                  <a:srgbClr val="660066"/>
                </a:solidFill>
                <a:latin typeface="Impact"/>
              </a:rPr>
              <a:t>年</a:t>
            </a:r>
            <a:r>
              <a:rPr b="0" lang="zh-CN" sz="2800" spc="-1" strike="noStrike">
                <a:solidFill>
                  <a:srgbClr val="660066"/>
                </a:solidFill>
                <a:latin typeface="Impact"/>
              </a:rPr>
              <a:t>3</a:t>
            </a:r>
            <a:r>
              <a:rPr b="0" lang="zh-CN" sz="2800" spc="-1" strike="noStrike">
                <a:solidFill>
                  <a:srgbClr val="660066"/>
                </a:solidFill>
                <a:latin typeface="Impact"/>
              </a:rPr>
              <a:t>月</a:t>
            </a:r>
            <a:r>
              <a:rPr b="0" lang="zh-CN" sz="2800" spc="-1" strike="noStrike">
                <a:solidFill>
                  <a:srgbClr val="660066"/>
                </a:solidFill>
                <a:latin typeface="Impact"/>
              </a:rPr>
              <a:t>12</a:t>
            </a:r>
            <a:r>
              <a:rPr b="0" lang="zh-CN" sz="2800" spc="-1" strike="noStrike">
                <a:solidFill>
                  <a:srgbClr val="660066"/>
                </a:solidFill>
                <a:latin typeface="Impact"/>
              </a:rPr>
              <a:t>日在北京逝世。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random/>
    <p:sndAc>
      <p:stSnd>
        <p:snd r:embed="rId1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Impact"/>
              </a:rPr>
              <a:t>看谁读得准？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600200" y="1828800"/>
            <a:ext cx="1295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楷体_GB2312"/>
              </a:rPr>
              <a:t>私塾</a:t>
            </a:r>
            <a:endParaRPr b="0" lang="en-US" sz="24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楷体_GB2312"/>
              <a:ea typeface="楷体_GB2312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352680" y="1828800"/>
            <a:ext cx="12956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楷体_GB2312"/>
              </a:rPr>
              <a:t>背诵</a:t>
            </a:r>
            <a:endParaRPr b="0" lang="en-US" sz="24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楷体_GB2312"/>
              <a:ea typeface="楷体_GB2312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105520" y="1828800"/>
            <a:ext cx="1295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楷体_GB2312"/>
              </a:rPr>
              <a:t>意思</a:t>
            </a:r>
            <a:endParaRPr b="0" lang="en-US" sz="24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楷体_GB2312"/>
              <a:ea typeface="楷体_GB2312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0" y="1828800"/>
            <a:ext cx="1295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楷体_GB2312"/>
              </a:rPr>
              <a:t>照例</a:t>
            </a:r>
            <a:endParaRPr b="0" lang="en-US" sz="24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楷体_GB2312"/>
              <a:ea typeface="楷体_GB2312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600200" y="3048120"/>
            <a:ext cx="1295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楷体_GB2312"/>
              </a:rPr>
              <a:t>一段</a:t>
            </a:r>
            <a:endParaRPr b="0" lang="en-US" sz="24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楷体_GB2312"/>
              <a:ea typeface="楷体_GB2312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352680" y="3048120"/>
            <a:ext cx="2743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楷体_GB2312"/>
              </a:rPr>
              <a:t>糊里糊涂</a:t>
            </a:r>
            <a:endParaRPr b="0" lang="en-US" sz="24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楷体_GB2312"/>
              <a:ea typeface="楷体_GB2312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0" y="3048120"/>
            <a:ext cx="1295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楷体_GB2312"/>
              </a:rPr>
              <a:t>晃动</a:t>
            </a:r>
            <a:endParaRPr b="0" lang="en-US" sz="24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楷体_GB2312"/>
              <a:ea typeface="楷体_GB2312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600200" y="4191120"/>
            <a:ext cx="1295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楷体_GB2312"/>
              </a:rPr>
              <a:t>吓呆</a:t>
            </a:r>
            <a:endParaRPr b="0" lang="en-US" sz="24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楷体_GB2312"/>
              <a:ea typeface="楷体_GB2312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352680" y="4191120"/>
            <a:ext cx="25909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楷体_GB2312"/>
              </a:rPr>
              <a:t>鸦雀无声</a:t>
            </a:r>
            <a:endParaRPr b="0" lang="en-US" sz="24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楷体_GB2312"/>
              <a:ea typeface="楷体_GB2312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0" y="4191120"/>
            <a:ext cx="1295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楷体_GB2312"/>
              </a:rPr>
              <a:t>拿着</a:t>
            </a:r>
            <a:endParaRPr b="0" lang="en-US" sz="24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楷体_GB2312"/>
              <a:ea typeface="楷体_GB2312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600200" y="5334120"/>
            <a:ext cx="1295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楷体_GB2312"/>
              </a:rPr>
              <a:t>严厉</a:t>
            </a:r>
            <a:endParaRPr b="0" lang="en-US" sz="24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楷体_GB2312"/>
              <a:ea typeface="楷体_GB2312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352680" y="5334120"/>
            <a:ext cx="12956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楷体_GB2312"/>
              </a:rPr>
              <a:t>既然</a:t>
            </a:r>
            <a:endParaRPr b="0" lang="en-US" sz="24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楷体_GB2312"/>
              <a:ea typeface="楷体_GB2312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105520" y="5334120"/>
            <a:ext cx="1295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楷体_GB2312"/>
              </a:rPr>
              <a:t>养成</a:t>
            </a:r>
            <a:endParaRPr b="0" lang="en-US" sz="24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楷体_GB2312"/>
              <a:ea typeface="楷体_GB2312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0" y="5334120"/>
            <a:ext cx="1295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楷体_GB2312"/>
              </a:rPr>
              <a:t>良好</a:t>
            </a:r>
            <a:endParaRPr b="0" lang="en-US" sz="24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楷体_GB2312"/>
              <a:ea typeface="楷体_GB2312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28600" y="6095880"/>
            <a:ext cx="8534520" cy="655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76320" y="304920"/>
            <a:ext cx="8534160" cy="6555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Impact"/>
              </a:rPr>
              <a:t>读出下面的句子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95280" y="1752480"/>
            <a:ext cx="5181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Impact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66"/>
                </a:solidFill>
                <a:latin typeface="Impact"/>
              </a:rPr>
              <a:t>孙中山小的时候在私塾读书。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Impact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66"/>
                </a:solidFill>
                <a:latin typeface="Impact"/>
              </a:rPr>
              <a:t>只是先生念，学生跟着读，然后把读的段落背诵下来。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Impact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66"/>
                </a:solidFill>
                <a:latin typeface="Impact"/>
              </a:rPr>
              <a:t>一天，孙中山           流利地背出了前一天学的功课。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Impact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66"/>
                </a:solidFill>
                <a:latin typeface="Impact"/>
              </a:rPr>
              <a:t>教室里顿时鸦雀无声。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2" name=""/>
          <p:cNvSpPr/>
          <p:nvPr/>
        </p:nvSpPr>
        <p:spPr>
          <a:xfrm>
            <a:off x="4639680" y="17668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私塾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97000" y="3214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背诵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06360" y="42051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照例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715200" y="5676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鸦雀无声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553080" y="3276720"/>
            <a:ext cx="2248200" cy="266688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379960" y="677880"/>
            <a:ext cx="491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先生拿着戒尺，走到孙中山跟前，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厉声问道：“你会背了吗？”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30880" y="2000160"/>
            <a:ext cx="4377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    “</a:t>
            </a:r>
            <a:r>
              <a:rPr b="0" lang="zh-CN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会背了。”孙中山说着，就把那段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书一字不错地背出来。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84440" y="3605040"/>
            <a:ext cx="46670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先生收起戒尺，摆摆手让孙中山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坐下，说：“学问，学问，不懂就问。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我原想，书中的道理，你们长大了自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然会知道的。现在你们既然想听，我就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讲讲吧。”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3048120" y="1219320"/>
            <a:ext cx="685800" cy="152280"/>
            <a:chOff x="3048120" y="1219320"/>
            <a:chExt cx="685800" cy="152280"/>
          </a:xfrm>
        </p:grpSpPr>
        <p:sp>
          <p:nvSpPr>
            <p:cNvPr id="131" name=""/>
            <p:cNvSpPr/>
            <p:nvPr/>
          </p:nvSpPr>
          <p:spPr>
            <a:xfrm>
              <a:off x="3048120" y="1219320"/>
              <a:ext cx="228600" cy="152280"/>
            </a:xfrm>
            <a:prstGeom prst="triangle">
              <a:avLst>
                <a:gd name="adj" fmla="val 50000"/>
              </a:avLst>
            </a:prstGeom>
            <a:solidFill>
              <a:srgbClr val="99ff99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505320" y="1219320"/>
              <a:ext cx="228600" cy="152280"/>
            </a:xfrm>
            <a:prstGeom prst="triangle">
              <a:avLst>
                <a:gd name="adj" fmla="val 50000"/>
              </a:avLst>
            </a:prstGeom>
            <a:solidFill>
              <a:srgbClr val="99ff99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5105520" y="1143000"/>
            <a:ext cx="685800" cy="152280"/>
            <a:chOff x="5105520" y="1143000"/>
            <a:chExt cx="685800" cy="152280"/>
          </a:xfrm>
        </p:grpSpPr>
        <p:sp>
          <p:nvSpPr>
            <p:cNvPr id="134" name=""/>
            <p:cNvSpPr/>
            <p:nvPr/>
          </p:nvSpPr>
          <p:spPr>
            <a:xfrm>
              <a:off x="5105520" y="1143000"/>
              <a:ext cx="228600" cy="152280"/>
            </a:xfrm>
            <a:prstGeom prst="triangle">
              <a:avLst>
                <a:gd name="adj" fmla="val 50000"/>
              </a:avLst>
            </a:prstGeom>
            <a:solidFill>
              <a:srgbClr val="99ff99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562720" y="1143000"/>
              <a:ext cx="228600" cy="152280"/>
            </a:xfrm>
            <a:prstGeom prst="triangle">
              <a:avLst>
                <a:gd name="adj" fmla="val 50000"/>
              </a:avLst>
            </a:prstGeom>
            <a:solidFill>
              <a:srgbClr val="99ff99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2286000" y="1600200"/>
            <a:ext cx="609480" cy="152280"/>
            <a:chOff x="2286000" y="1600200"/>
            <a:chExt cx="609480" cy="152280"/>
          </a:xfrm>
        </p:grpSpPr>
        <p:sp>
          <p:nvSpPr>
            <p:cNvPr id="137" name=""/>
            <p:cNvSpPr/>
            <p:nvPr/>
          </p:nvSpPr>
          <p:spPr>
            <a:xfrm>
              <a:off x="2286000" y="1600200"/>
              <a:ext cx="228600" cy="152280"/>
            </a:xfrm>
            <a:prstGeom prst="triangle">
              <a:avLst>
                <a:gd name="adj" fmla="val 50000"/>
              </a:avLst>
            </a:prstGeom>
            <a:solidFill>
              <a:srgbClr val="99ff99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666880" y="1600200"/>
              <a:ext cx="228600" cy="152280"/>
            </a:xfrm>
            <a:prstGeom prst="triangle">
              <a:avLst>
                <a:gd name="adj" fmla="val 50000"/>
              </a:avLst>
            </a:prstGeom>
            <a:solidFill>
              <a:srgbClr val="99ff99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3124080" y="4114800"/>
            <a:ext cx="685800" cy="152280"/>
            <a:chOff x="3124080" y="4114800"/>
            <a:chExt cx="685800" cy="152280"/>
          </a:xfrm>
        </p:grpSpPr>
        <p:sp>
          <p:nvSpPr>
            <p:cNvPr id="140" name=""/>
            <p:cNvSpPr/>
            <p:nvPr/>
          </p:nvSpPr>
          <p:spPr>
            <a:xfrm>
              <a:off x="3124080" y="4114800"/>
              <a:ext cx="228600" cy="152280"/>
            </a:xfrm>
            <a:prstGeom prst="triangle">
              <a:avLst>
                <a:gd name="adj" fmla="val 50000"/>
              </a:avLst>
            </a:prstGeom>
            <a:solidFill>
              <a:srgbClr val="99ff99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581280" y="4114800"/>
              <a:ext cx="228600" cy="152280"/>
            </a:xfrm>
            <a:prstGeom prst="triangle">
              <a:avLst>
                <a:gd name="adj" fmla="val 50000"/>
              </a:avLst>
            </a:prstGeom>
            <a:solidFill>
              <a:srgbClr val="99ff99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5257800" y="4114800"/>
            <a:ext cx="990720" cy="152280"/>
            <a:chOff x="5257800" y="4114800"/>
            <a:chExt cx="990720" cy="152280"/>
          </a:xfrm>
        </p:grpSpPr>
        <p:sp>
          <p:nvSpPr>
            <p:cNvPr id="143" name=""/>
            <p:cNvSpPr/>
            <p:nvPr/>
          </p:nvSpPr>
          <p:spPr>
            <a:xfrm>
              <a:off x="5257800" y="4114800"/>
              <a:ext cx="228600" cy="152280"/>
            </a:xfrm>
            <a:prstGeom prst="triangle">
              <a:avLst>
                <a:gd name="adj" fmla="val 50000"/>
              </a:avLst>
            </a:prstGeom>
            <a:solidFill>
              <a:srgbClr val="99ff99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38680" y="4114800"/>
              <a:ext cx="228600" cy="152280"/>
            </a:xfrm>
            <a:prstGeom prst="triangle">
              <a:avLst>
                <a:gd name="adj" fmla="val 50000"/>
              </a:avLst>
            </a:prstGeom>
            <a:solidFill>
              <a:srgbClr val="99ff99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019920" y="4114800"/>
              <a:ext cx="228600" cy="152280"/>
            </a:xfrm>
            <a:prstGeom prst="triangle">
              <a:avLst>
                <a:gd name="adj" fmla="val 50000"/>
              </a:avLst>
            </a:prstGeom>
            <a:solidFill>
              <a:srgbClr val="99ff99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28600" y="4419720"/>
            <a:ext cx="1981080" cy="18334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7010280" y="685800"/>
            <a:ext cx="2522520" cy="592452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CAMERA.WAV"/>
      </p:stSnd>
    </p:sndAc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15T15:40:02Z</dcterms:created>
  <dc:creator/>
  <dc:description/>
  <dc:language>en-US</dc:language>
  <cp:lastModifiedBy>yang</cp:lastModifiedBy>
  <dcterms:modified xsi:type="dcterms:W3CDTF">2004-03-26T10:12:16Z</dcterms:modified>
  <cp:revision>8</cp:revision>
  <dc:subject/>
  <dc:title>没有幻灯片标题</dc:title>
</cp:coreProperties>
</file>