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C69-E67A-44A8-9047-9B882BD3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3DB-8195-4276-865A-9222B2F2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896-569D-4C63-BBD0-5AC7C719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A7C-DDFA-4E24-B3E2-B3F7B243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3F9-90E0-43F3-A4B2-9B99D28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112-1099-4B02-9732-ED0CC34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660-BA93-40E3-8017-7F5BFE6F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77F-FD5E-4AAB-BFF3-BB7961F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094-D9F5-4A74-A257-BC6B393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6A2-A196-417E-A3B3-5BC1426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E69-E907-4E1F-95F8-F7074D6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25E-0473-4B35-80A7-96D9328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2DB9-992F-4E74-96EA-93B9AD6565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62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学语文第五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286000"/>
            <a:ext cx="48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6633"/>
                </a:solidFill>
                <a:latin typeface="隶书"/>
                <a:ea typeface="隶书"/>
              </a:rPr>
              <a:t>不 懂 就 要 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13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543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unzhongxang0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孙中山  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(1866-1925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伟大的民主革命先行者。广东香山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中山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人，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189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年毕业于香港西医书院。赴檀香山成立兴中会，誓推翻清朝。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1905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年在日本联合华兴会、光复会等革命团体成立中国同盟会，被推为总理。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191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年辛亥革命后被十七省代表推举为中国民国临时大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85800"/>
            <a:ext cx="281952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学 习 生 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819520"/>
            <a:ext cx="1295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Times New Roman"/>
              </a:rPr>
              <a:t>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787480"/>
            <a:ext cx="1600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Times New Roman"/>
              </a:rPr>
              <a:t>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510552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勤学好问   读书求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理 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15238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孙 中 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提 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不 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304920"/>
            <a:ext cx="2971800" cy="990360"/>
          </a:xfrm>
          <a:prstGeom prst="cloudCallout">
            <a:avLst>
              <a:gd name="adj1" fmla="val -74518"/>
              <a:gd name="adj2" fmla="val 116185"/>
            </a:avLst>
          </a:prstGeom>
          <a:solidFill>
            <a:srgbClr val="ffff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8080"/>
                </a:solidFill>
                <a:latin typeface="华文中宋"/>
                <a:ea typeface="华文中宋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1240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ff99"/>
          </a:solidFill>
          <a:ln w="324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1240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ff99"/>
          </a:solidFill>
          <a:ln w="324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5:12:57Z</dcterms:created>
  <dc:creator>zy</dc:creator>
  <dc:description/>
  <dc:language>en-US</dc:language>
  <cp:lastModifiedBy>a</cp:lastModifiedBy>
  <dcterms:modified xsi:type="dcterms:W3CDTF">2003-05-27T01:25:12Z</dcterms:modified>
  <cp:revision>3</cp:revision>
  <dc:subject/>
  <dc:title>PowerPoint 演示文稿</dc:title>
</cp:coreProperties>
</file>