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1BE-C77F-45A7-94E7-43956FF6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B4E-38F2-4DFE-B9AB-A6A6A083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661-2379-4CF0-9683-4A53F616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377-BF1E-4D8D-BAE9-B8B15666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B8D2-7F75-4186-A275-6151443D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7ABD-E532-4062-9110-81EED17B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7692-7F88-4F5E-8ECC-28CF0C62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9C54-B307-46D3-988B-EFE5DA8B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D6CA-AE2E-4943-83D9-6CBC7E70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928A-78A9-4C62-ABD2-2A06A67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10D3-AC67-44C6-89FB-D62603A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119-4B89-4F89-9D3F-281701FD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9595-F909-473D-9844-92F0CDF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C5F6-3387-4C5A-A67E-360427C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B2C2-9D8C-4950-BADC-2012B32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FF3A-9112-4F6F-B2B2-FD8F075F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7EB-1AD1-49DA-8189-76E8511C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4B5-6A89-4163-AE1E-E8B4F7A3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9B9-9BA4-4B67-AEA7-1AFB1504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827-E0D3-4A70-8105-1880A224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5D2-93CF-4087-BB0D-15CE52A4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848-674A-4279-80FA-4643F24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CC6-E9C0-4008-8D14-DDE63AC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892-2647-489A-8CC3-73FA7AE6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CEAC-B8F0-46EB-82BF-BCEE0D26AFDF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7C5C-5829-4180-B152-6DE8F56108EE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_x000b__x000c_"/>
              </a:rPr>
              <a:t>　</a:t>
            </a:r>
            <a:r>
              <a:rPr b="1" lang="zh-CN" sz="4400" spc="-1" strike="noStrike">
                <a:solidFill>
                  <a:srgbClr val="99cc99"/>
                </a:solidFill>
                <a:latin typeface="_x000b__x000c_"/>
              </a:rPr>
              <a:t>我国伟大的革命先行者。名文，字逸仙、后化名中山樵。广东东香山（今中山）人</a:t>
            </a:r>
            <a:r>
              <a:rPr b="1" lang="zh-CN" sz="4400" spc="-1" strike="noStrike">
                <a:solidFill>
                  <a:srgbClr val="99cc99"/>
                </a:solidFill>
                <a:latin typeface="Arial"/>
                <a:ea typeface="_x000b__x000c_"/>
              </a:rPr>
              <a:t>1892</a:t>
            </a:r>
            <a:r>
              <a:rPr b="1" lang="zh-CN" sz="4400" spc="-1" strike="noStrike">
                <a:solidFill>
                  <a:srgbClr val="99cc99"/>
                </a:solidFill>
                <a:latin typeface="_x000b__x000c_"/>
              </a:rPr>
              <a:t>年（清光绪十八年）在香港西医书院毕业后，行医于澳门、广州。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808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</a:t>
            </a:r>
            <a:r>
              <a:rPr b="1" i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孙   中    山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-360"/>
            <a:ext cx="89154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894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上书李鸿章，提出革新政治主张，被拒绝，遂赴檀香山组织兴中会，提出了“振兴中华”的口号和“驱除鞑虏，恢复中国，创立合众政府”的政纲。次年在香港设机关，准备在广州起义未成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900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派人至惠州（今属广东）三洲田发动起义，失败后继续在国外开展革命活动。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905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在日本东京组成中国同盟会，被推为总理；确定“驱除鞑虏，恢复中华，建立民国，平均地权”的资产阶级革命政纲，提出三民主义学说；创办《民报》，宣传革命，同当时的中国改良派激烈论战。此后在国内外发展革命组织，联络华侨、会党和新军，多次发动武装起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911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（宣统三年）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0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月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0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日武昌起义，各省纷纷响应。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2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月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29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日，被十七省代表在南京推选为中华民国临时大总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912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月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日在南京宣布就职，建立中华民国临时政府，月底组成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14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在日本建立中华革命党，重举资产阶级革命旗帜，先后两次发表讨袁宣言。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17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段祺瑞解散国会，他在广州召开国会非常会议，组织护法军政府，当选为大元帅，誓师北伐。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18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因受桂系军阀和政学系的挟制，被迫去职，至上海。次年创办《建设》杂志，发表《实业计划》，并将中华革命党改组为中国一国民党。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20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回广东，次年就任非常大总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22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因陈炯明叛变，退居上海。屡经失败，陷入绝望境地。俄国十月革命的胜利和中国共产党的成立，给了他以新的希望。在中国共产党和苏俄共产党、列宁的帮助下，决心改组国民党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23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回到广州，重建大元帅府，次年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月召开中国国民党第一次全国代表大会，通过宣言，实行联俄、联共、扶助衣工的三大政策，把旧三民主义发展成为新三民主义；改组中国国民党成为工人、农民、小资产阶级和民族资产阶级的革命联盟。同年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1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月，他应邀北上讨论国是，提出“召开国民会议和废除不平等条约”两大号召，同帝国主义和北洋军阀段祺瑞、张作霖等作斗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25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3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2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日在北京逝世，遗嘱“必须唤起民众，及联合世界上以平等待我之民族，共同奋斗”。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caiyan</cp:lastModifiedBy>
  <dcterms:modified xsi:type="dcterms:W3CDTF">2003-11-04T04:26:18Z</dcterms:modified>
  <cp:revision>5</cp:revision>
  <dc:subject/>
  <dc:title>PowerPoint Presentation</dc:title>
</cp:coreProperties>
</file>