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media/LASER.WAV" ContentType="audio/x-wav"/>
  <Override PartName="/ppt/media/image5.png" ContentType="image/png"/>
  <Override PartName="/ppt/media/image2.png" ContentType="image/png"/>
  <Override PartName="/ppt/media/TYPE.WAV" ContentType="audio/x-wav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459-48D6-4E62-ABF9-97388D0B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26E-2B7B-4C0B-B6CA-2497AAA5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699-E412-49F4-8E6F-89CE8708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1B5-75B9-4979-B670-B0082F5C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0DA3-2485-4725-9E4B-E274CD37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B781-648D-4376-8B8F-E28617FB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D22D-F1D4-4ED4-B3F8-85714A50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08D6-A337-4179-B9B1-34B51F91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2675-F842-4BCB-AE7A-267DFD67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103D-7FF4-42CB-8525-353DBDAE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8E06-E676-409B-B209-4485DCC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C5A-FA9F-417A-86B5-81261381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AFBC-5F27-47DA-8AF2-5D904CAB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E897-9815-426A-8F01-65974CDB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5D7E-37D7-4802-B820-D0426699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8B2B-AA80-4A6E-A57E-660FD3E7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8B98-697B-48D5-947B-68C6351A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901-0856-4813-9697-72255E6A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772-FF11-4A84-8A1E-60BCBBB6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BB1-9BFC-4E28-A7EF-08A9CBA1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5A7-33CA-49E6-8D30-141E8136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264-EA26-4667-967D-AED8FDB4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A93-BF8A-4F33-BDAB-A31F4E12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831-BE2F-4573-ABCB-019DCA69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2025-391A-4E82-BB5C-5793E43EFDD7}" type="slidenum">
              <a:rPr b="0" lang="zh-CN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7C94-5EC8-4526-9C40-F3C959BD0CB4}" type="slidenum">
              <a:rPr b="0" lang="zh-CN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438280" y="685800"/>
            <a:ext cx="426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不懂就问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孙中山（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1866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一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1925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）：中国近代伟大的革命先行者。名文，字逸仙，广东省香山市（今中山市）人。曾提出“三民主义”，建立国民党。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1925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年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月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12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日在北京逝世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看谁读得准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00200" y="182880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私塾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352680" y="1828800"/>
            <a:ext cx="129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背诵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05520" y="182880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意思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0" y="182880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照例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600200" y="3048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一段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352680" y="304812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糊里糊涂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0" y="3048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晃动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00200" y="4191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吓呆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352680" y="419112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鸦雀无声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0" y="4191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拿着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00200" y="5334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严厉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352680" y="5334120"/>
            <a:ext cx="129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既然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105520" y="5334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养成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0" y="5334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良好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6095880"/>
            <a:ext cx="8534520" cy="65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8534160" cy="6555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读出下面的句子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孙中山小的时候在私塾读书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只是先生念，学生跟着读，然后把读的段落背诵下来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一天，孙中山           流利地背出了前一天学的功课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教室里顿时鸦雀无声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4639680" y="1766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私塾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7000" y="321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背诵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06360" y="42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照例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15200" y="5676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鸦雀无声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3080" y="3276720"/>
            <a:ext cx="224820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79960" y="677880"/>
            <a:ext cx="49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先生拿着戒尺，走到孙中山跟前，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厉声问道：“你会背了吗？”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30880" y="2000160"/>
            <a:ext cx="437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“</a:t>
            </a: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会背了。”孙中山说着，就把那段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书一字不错地背出来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84440" y="3605040"/>
            <a:ext cx="4667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先生收起戒尺，摆摆手让孙中山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坐下，说：“学问，学问，不懂就问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我原想，书中的道理，你们长大了自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然会知道的。现在你们既然想听，我就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讲讲吧。”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8120" y="1219320"/>
            <a:ext cx="685800" cy="152280"/>
            <a:chOff x="3048120" y="1219320"/>
            <a:chExt cx="685800" cy="152280"/>
          </a:xfrm>
        </p:grpSpPr>
        <p:sp>
          <p:nvSpPr>
            <p:cNvPr id="131" name=""/>
            <p:cNvSpPr/>
            <p:nvPr/>
          </p:nvSpPr>
          <p:spPr>
            <a:xfrm>
              <a:off x="3048120" y="121932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121932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105520" y="1143000"/>
            <a:ext cx="685800" cy="152280"/>
            <a:chOff x="5105520" y="1143000"/>
            <a:chExt cx="685800" cy="152280"/>
          </a:xfrm>
        </p:grpSpPr>
        <p:sp>
          <p:nvSpPr>
            <p:cNvPr id="134" name=""/>
            <p:cNvSpPr/>
            <p:nvPr/>
          </p:nvSpPr>
          <p:spPr>
            <a:xfrm>
              <a:off x="5105520" y="11430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62720" y="11430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286000" y="1600200"/>
            <a:ext cx="609480" cy="152280"/>
            <a:chOff x="2286000" y="1600200"/>
            <a:chExt cx="609480" cy="152280"/>
          </a:xfrm>
        </p:grpSpPr>
        <p:sp>
          <p:nvSpPr>
            <p:cNvPr id="137" name=""/>
            <p:cNvSpPr/>
            <p:nvPr/>
          </p:nvSpPr>
          <p:spPr>
            <a:xfrm>
              <a:off x="2286000" y="16002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66880" y="16002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124080" y="4114800"/>
            <a:ext cx="685800" cy="152280"/>
            <a:chOff x="3124080" y="4114800"/>
            <a:chExt cx="685800" cy="152280"/>
          </a:xfrm>
        </p:grpSpPr>
        <p:sp>
          <p:nvSpPr>
            <p:cNvPr id="140" name=""/>
            <p:cNvSpPr/>
            <p:nvPr/>
          </p:nvSpPr>
          <p:spPr>
            <a:xfrm>
              <a:off x="3124080" y="41148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41148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257800" y="4114800"/>
            <a:ext cx="990720" cy="152280"/>
            <a:chOff x="5257800" y="4114800"/>
            <a:chExt cx="990720" cy="152280"/>
          </a:xfrm>
        </p:grpSpPr>
        <p:sp>
          <p:nvSpPr>
            <p:cNvPr id="143" name=""/>
            <p:cNvSpPr/>
            <p:nvPr/>
          </p:nvSpPr>
          <p:spPr>
            <a:xfrm>
              <a:off x="5257800" y="41148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38680" y="41148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920" y="41148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1981080" cy="1833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685800"/>
            <a:ext cx="2522520" cy="5924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yang</cp:lastModifiedBy>
  <dcterms:modified xsi:type="dcterms:W3CDTF">2004-03-26T10:12:16Z</dcterms:modified>
  <cp:revision>8</cp:revision>
  <dc:subject/>
  <dc:title>没有幻灯片标题</dc:title>
</cp:coreProperties>
</file>