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C5A-94B8-42FB-AB88-B5328E59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E95-6DEA-497A-B804-A7C51410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75B-A393-4316-B770-C76DEE56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E4E-5906-4359-86DD-A7AD37B0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CCB-6A3A-4766-BCDF-9E65136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6DC-4685-41D2-8CD2-0742BF1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03C-A34A-4A99-AF8B-8F01059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052-4D55-4930-B1FB-E95E88A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E2E-5682-440F-856B-A675B98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1BE-1402-4491-BA0F-C8EFCDC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78E-27E5-4714-A33F-AF0DDD3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A15-3491-4A38-81D6-FCD8E7B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B0F-B172-4176-8502-234BEE6FF6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学语文第五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28600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33"/>
                </a:solidFill>
                <a:latin typeface="隶书"/>
                <a:ea typeface="隶书"/>
              </a:rPr>
              <a:t>不 懂 就 要 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13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543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zhongxang0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孙中山  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(1866-1925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伟大的民主革命先行者。广东香山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山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人，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89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毕业于香港西医书院。赴檀香山成立兴中会，誓推翻清朝。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在日本联合华兴会、光复会等革命团体成立中国同盟会，被推为总理。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91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辛亥革命后被十七省代表推举为中国民国临时大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85800"/>
            <a:ext cx="281952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学 习 生 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819520"/>
            <a:ext cx="1295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Times New Roman"/>
              </a:rPr>
              <a:t>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787480"/>
            <a:ext cx="160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Times New Roman"/>
              </a:rPr>
              <a:t>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51055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勤学好问   读书求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理 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5238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孙 中 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提 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不 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304920"/>
            <a:ext cx="2971800" cy="990360"/>
          </a:xfrm>
          <a:prstGeom prst="cloudCallout">
            <a:avLst>
              <a:gd name="adj1" fmla="val -74518"/>
              <a:gd name="adj2" fmla="val 116185"/>
            </a:avLst>
          </a:prstGeom>
          <a:solidFill>
            <a:srgbClr val="ffff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8080"/>
                </a:solidFill>
                <a:latin typeface="华文中宋"/>
                <a:ea typeface="华文中宋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5:12:57Z</dcterms:created>
  <dc:creator>zy</dc:creator>
  <dc:description/>
  <dc:language>en-US</dc:language>
  <cp:lastModifiedBy>a</cp:lastModifiedBy>
  <dcterms:modified xsi:type="dcterms:W3CDTF">2003-05-27T01:25:12Z</dcterms:modified>
  <cp:revision>3</cp:revision>
  <dc:subject/>
  <dc:title>PowerPoint 演示文稿</dc:title>
</cp:coreProperties>
</file>