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9AA8-18D2-4DCF-8282-018B36D3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1BF5-FFF2-4DC9-A229-BDFF68C8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2CD9-A183-44A7-B46E-995CDBF7E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1675-561D-4209-959A-EC1A21A1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46B6-4C94-438A-ABD4-2BAF9133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6A04-28F3-46DB-9A0B-5BA86238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F5A9-0C09-4A06-9AC2-95B7832C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B908-CD8D-464B-95FC-31B26D33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7CD2-4AC4-4617-8E65-F5E85AA1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A89D-BBC7-432A-8C42-E1E09BB0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F1BF-EECC-4E3B-9A6C-D9FB7D6B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EDD4-9798-4A99-8F1D-81C63E38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3D16-7514-44EE-8520-6C3467B2BC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1143000"/>
            <a:ext cx="4647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小学语文课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3556080" y="38091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00"/>
                </a:solidFill>
                <a:uFillTx/>
                <a:latin typeface="Times New Roman"/>
                <a:ea typeface="楷体_GB2312"/>
              </a:rPr>
              <a:t>做风车的故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Newton_isaac_06" descr=""/>
          <p:cNvPicPr/>
          <p:nvPr/>
        </p:nvPicPr>
        <p:blipFill>
          <a:blip r:embed="rId1"/>
          <a:stretch/>
        </p:blipFill>
        <p:spPr>
          <a:xfrm>
            <a:off x="3124080" y="457200"/>
            <a:ext cx="2514600" cy="3746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4495680"/>
            <a:ext cx="8915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牛顿： 是英国伟大的数学家、物理学家、天文学家和自然哲学家。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1642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日生于英格兰林肯郡格兰瑟姆附近的沃尔索普村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,1727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日在伦敦病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牛顿在科学上最卓越的贡献是微积分和经典力学的创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1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057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      “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牛顿的小风车是怎样做出来的？”“同学们是如何评价的？”“小风车被摔坏以后，牛顿为什么心里难受极了，但又没有流一滴眼泪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533520"/>
            <a:ext cx="1828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质 疑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99556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0"/>
          <a:ext cx="9144000" cy="68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438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ff99"/>
                </a:solidFill>
                <a:latin typeface="Times New Roman"/>
                <a:ea typeface="隶书"/>
              </a:rPr>
              <a:t>       </a:t>
            </a:r>
            <a:r>
              <a:rPr b="1" lang="zh-CN" sz="4800" spc="-1" strike="noStrike">
                <a:solidFill>
                  <a:srgbClr val="99ff99"/>
                </a:solidFill>
                <a:latin typeface="Times New Roman"/>
                <a:ea typeface="隶书"/>
              </a:rPr>
              <a:t>学习完课文你明白了什么？联系自己的实际说一说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85800"/>
            <a:ext cx="2743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思 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09:20:53Z</dcterms:created>
  <dc:creator>zy</dc:creator>
  <dc:description/>
  <dc:language>en-US</dc:language>
  <cp:lastModifiedBy>lichengquan</cp:lastModifiedBy>
  <dcterms:modified xsi:type="dcterms:W3CDTF">2002-11-14T09:44:27Z</dcterms:modified>
  <cp:revision>5</cp:revision>
  <dc:subject/>
  <dc:title>PowerPoint 演示文稿</dc:title>
</cp:coreProperties>
</file>