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778-08CB-4F97-A105-BB8CE943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C9D-7861-4BC3-B15F-D9F5A0A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876-2A47-48C2-91EE-5E5D7BF5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1DC-4E16-4D30-8231-39FE9AC3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A1B-09DB-4B16-BDC5-D6AA35D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595-D0EF-4740-8EAA-6A1F605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6A6-880F-4701-9668-D855CFF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726-2B27-42A5-974A-C20CEA7A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89D-5BEC-40FB-A6A2-47165433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260-3035-4BF0-8856-3C9EB78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68E-79A1-4BA7-B3B7-A7EEA8F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E12-A2FC-4D7B-9E7F-B005212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145-B5F2-49C9-887E-3C56B3A24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309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942080" cy="624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99280" y="1143000"/>
            <a:ext cx="229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牛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英国科学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36080" y="533520"/>
            <a:ext cx="1642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做风车的故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D14710_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61976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072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学提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09680"/>
            <a:ext cx="1066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边读边想，联系上下文理解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意思，读懂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想想课文讲了一件什么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不懂的地方做出标记，提出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顿小时候是个怎样的孩子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卡特对牛顿说的话对不对？你对卡特的做法是怎么看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56640" y="1295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默读课文，提出问题，大家讨论。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下面的句子，注意划线的部分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他停下来仔仔细细地看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几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了回家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每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学回家，牛顿就钻进屋子西西当当地忙个不停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此，牛顿发愤学习，遇到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任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问个为什么，渐渐地养成了刻苦钻研的习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3:25:03Z</dcterms:created>
  <dc:creator>yh</dc:creator>
  <dc:description/>
  <dc:language>en-US</dc:language>
  <cp:lastModifiedBy>yang</cp:lastModifiedBy>
  <dcterms:modified xsi:type="dcterms:W3CDTF">2004-04-01T09:00:24Z</dcterms:modified>
  <cp:revision>8</cp:revision>
  <dc:subject/>
  <dc:title>PowerPoint 演示文稿</dc:title>
</cp:coreProperties>
</file>