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EC6-CB70-49F3-A645-D6E0930C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FE4-ED4D-4CF5-A7B3-5803BC4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B05-EC5B-4CBF-94BA-29B9865F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63C-E29B-421F-8B50-AB43F1DB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62C-811D-4348-8995-BC78B26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757-6407-4A5C-BA2B-06A9E56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B39-42D5-434B-8B34-ED45648A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006-F650-4419-89F0-4C3AFB0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286-B1B4-42DB-B765-FFEE6472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3B8-8EB4-46B1-9BD8-E85F220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EAC-5AD6-4517-B4AB-66CA26E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3C2-F8F8-450E-865B-38C1A63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C47A-DE93-4CE7-9774-D735060BC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143000"/>
            <a:ext cx="4647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小学语文课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556080" y="3809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做风车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ewton_isaac_06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514600" cy="374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49568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牛顿： 是英国伟大的数学家、物理学家、天文学家和自然哲学家。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164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日生于英格兰林肯郡格兰瑟姆附近的沃尔索普村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1727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日在伦敦病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牛顿在科学上最卓越的贡献是微积分和经典力学的创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1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牛顿的小风车是怎样做出来的？”“同学们是如何评价的？”“小风车被摔坏以后，牛顿为什么心里难受极了，但又没有流一滴眼泪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5335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质 疑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95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43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99ff99"/>
                </a:solidFill>
                <a:latin typeface="Times New Roman"/>
                <a:ea typeface="隶书"/>
              </a:rPr>
              <a:t>学习完课文你明白了什么？联系自己的实际说一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思 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20:53Z</dcterms:created>
  <dc:creator>zy</dc:creator>
  <dc:description/>
  <dc:language>en-US</dc:language>
  <cp:lastModifiedBy>lichengquan</cp:lastModifiedBy>
  <dcterms:modified xsi:type="dcterms:W3CDTF">2002-11-14T09:44:27Z</dcterms:modified>
  <cp:revision>5</cp:revision>
  <dc:subject/>
  <dc:title>PowerPoint 演示文稿</dc:title>
</cp:coreProperties>
</file>