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144-E5AB-488B-A248-BBD5D9AB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08C-DAC0-437C-AFBE-7B23D4F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A4C-0550-4B59-8432-1D34DC1A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A61-69B8-49B6-906A-2B1152FD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97F-7BB8-4E13-9E68-74122CB8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EAF-184E-48EB-A6CA-EBB2D353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3A3-9E1B-4D26-9F98-74916D15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634-6697-41FC-A101-A4C6D088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54F-FB10-4A7D-9758-4A1F0291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002-BDB6-40F2-AFC1-1EE1508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4F2-9A0A-4500-99B6-7BE2F1F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2C9-3D29-4797-81A7-97172FB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0D0-A989-457A-ACA8-989D861128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309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942080" cy="624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99280" y="1143000"/>
            <a:ext cx="229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牛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英国科学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36080" y="533520"/>
            <a:ext cx="1642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做风车的故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D14710_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61976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072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学提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09680"/>
            <a:ext cx="1066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边读边想，联系上下文理解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意思，读懂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想想课文讲了一件什么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不懂的地方做出标记，提出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顿小时候是个怎样的孩子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卡特对牛顿说的话对不对？你对卡特的做法是怎么看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56640" y="1295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默读课文，提出问题，大家讨论。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下面的句子，注意划线的部分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他停下来仔仔细细地看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几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了回家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每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学回家，牛顿就钻进屋子西西当当地忙个不停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此，牛顿发愤学习，遇到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任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问个为什么，渐渐地养成了刻苦钻研的习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3:25:03Z</dcterms:created>
  <dc:creator>yh</dc:creator>
  <dc:description/>
  <dc:language>en-US</dc:language>
  <cp:lastModifiedBy>yang</cp:lastModifiedBy>
  <dcterms:modified xsi:type="dcterms:W3CDTF">2004-04-01T09:00:24Z</dcterms:modified>
  <cp:revision>8</cp:revision>
  <dc:subject/>
  <dc:title>PowerPoint 演示文稿</dc:title>
</cp:coreProperties>
</file>