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8F8E-5076-45AA-8D01-45C3B603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8740-8CD4-44B4-8986-B1482308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D627-9C13-4FC9-A119-0E361DC1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7C8E-7638-42BE-9F52-B2C6462C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2FC6-8C3F-46CD-A1E9-66B133E5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BA70-97A1-448C-964C-7CE6E0A9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BE4C-B95B-4632-81B1-59399DC2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8BA3-FE9A-42BC-8D9C-894E9B5C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768C-8E95-4194-9C5A-FAE8A81E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7AE7-52D9-4193-B69B-394E53AC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B328-5D1A-4D7E-8BF6-0EE2BC1A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DC9B-CC05-41C1-83CD-A73CFBCB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CDBA-BECD-4A94-AFCB-E07A662C18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《蟋蟀的住宅》插图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5758920" y="3009960"/>
            <a:ext cx="5095800" cy="1057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彩云"/>
              </a:rPr>
              <a:t>蟋蟀的住宅</a:t>
            </a:r>
            <a:endParaRPr b="1" lang="en-US" sz="8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643120" y="533520"/>
            <a:ext cx="3857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蟋蟀的住宅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44" name="《蟋蟀的住宅》图片1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2682720" cy="2377800"/>
          </a:xfrm>
          <a:prstGeom prst="rect">
            <a:avLst/>
          </a:prstGeom>
          <a:ln w="0">
            <a:noFill/>
          </a:ln>
        </p:spPr>
      </p:pic>
      <p:pic>
        <p:nvPicPr>
          <p:cNvPr id="45" name="《蟋蟀的住宅》图片2" descr=""/>
          <p:cNvPicPr/>
          <p:nvPr/>
        </p:nvPicPr>
        <p:blipFill>
          <a:blip r:embed="rId2"/>
          <a:stretch/>
        </p:blipFill>
        <p:spPr>
          <a:xfrm>
            <a:off x="838080" y="4214880"/>
            <a:ext cx="2249640" cy="1728720"/>
          </a:xfrm>
          <a:prstGeom prst="rect">
            <a:avLst/>
          </a:prstGeom>
          <a:ln w="0">
            <a:noFill/>
          </a:ln>
        </p:spPr>
      </p:pic>
      <p:pic>
        <p:nvPicPr>
          <p:cNvPr id="46" name="02" descr=""/>
          <p:cNvPicPr/>
          <p:nvPr/>
        </p:nvPicPr>
        <p:blipFill>
          <a:blip r:embed="rId3"/>
          <a:stretch/>
        </p:blipFill>
        <p:spPr>
          <a:xfrm>
            <a:off x="4295880" y="2619360"/>
            <a:ext cx="4086000" cy="2333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62640" y="2057400"/>
            <a:ext cx="93312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彩云"/>
              </a:rPr>
              <a:t>隐蔽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00840" y="2057400"/>
            <a:ext cx="93348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彩云"/>
              </a:rPr>
              <a:t>干燥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24720" y="2057400"/>
            <a:ext cx="93348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彩云"/>
              </a:rPr>
              <a:t>有平台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50" name=""/>
          <p:cNvSpPr txBox="1"/>
          <p:nvPr/>
        </p:nvSpPr>
        <p:spPr>
          <a:xfrm rot="5400000">
            <a:off x="3352320" y="3943440"/>
            <a:ext cx="933480" cy="476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cc99ff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光滑</a:t>
            </a:r>
            <a:endParaRPr b="1" lang="en-US" sz="2400" spc="1" strike="noStrike">
              <a:ln w="12600">
                <a:solidFill>
                  <a:srgbClr val="cc99ff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67120" y="5010120"/>
            <a:ext cx="9334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99ccff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平整</a:t>
            </a:r>
            <a:endParaRPr b="1" lang="en-US" sz="2400" spc="1" strike="noStrike">
              <a:ln w="12600">
                <a:solidFill>
                  <a:srgbClr val="99ccff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67320" y="5238720"/>
            <a:ext cx="9334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99cc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简朴</a:t>
            </a:r>
            <a:endParaRPr b="1" lang="en-US" sz="2400" spc="1" strike="noStrike">
              <a:ln w="12600">
                <a:solidFill>
                  <a:srgbClr val="99cc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38920" y="5238720"/>
            <a:ext cx="9334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99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清洁</a:t>
            </a:r>
            <a:endParaRPr b="1" lang="en-US" sz="2400" spc="1" strike="noStrike">
              <a:ln w="12600">
                <a:solidFill>
                  <a:srgbClr val="ff99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8133840" y="4648320"/>
            <a:ext cx="933480" cy="476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99cc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卫生</a:t>
            </a:r>
            <a:endParaRPr b="1" lang="en-US" sz="2400" spc="1" strike="noStrike">
              <a:ln w="12600">
                <a:solidFill>
                  <a:srgbClr val="ff99cc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304920" y="457200"/>
            <a:ext cx="1143000" cy="1008360"/>
            <a:chOff x="304920" y="457200"/>
            <a:chExt cx="1143000" cy="1008360"/>
          </a:xfrm>
        </p:grpSpPr>
        <p:sp>
          <p:nvSpPr>
            <p:cNvPr id="56" name=""/>
            <p:cNvSpPr/>
            <p:nvPr/>
          </p:nvSpPr>
          <p:spPr>
            <a:xfrm>
              <a:off x="304920" y="533520"/>
              <a:ext cx="114300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1240" y="4572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宅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600200"/>
            <a:ext cx="1828800" cy="825120"/>
            <a:chOff x="0" y="1600200"/>
            <a:chExt cx="1828800" cy="825120"/>
          </a:xfrm>
        </p:grpSpPr>
        <p:sp>
          <p:nvSpPr>
            <p:cNvPr id="59" name=""/>
            <p:cNvSpPr/>
            <p:nvPr/>
          </p:nvSpPr>
          <p:spPr>
            <a:xfrm>
              <a:off x="228600" y="167652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6002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住宅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447920" y="1600200"/>
            <a:ext cx="1828800" cy="825120"/>
            <a:chOff x="1447920" y="1600200"/>
            <a:chExt cx="1828800" cy="825120"/>
          </a:xfrm>
        </p:grpSpPr>
        <p:sp>
          <p:nvSpPr>
            <p:cNvPr id="62" name=""/>
            <p:cNvSpPr/>
            <p:nvPr/>
          </p:nvSpPr>
          <p:spPr>
            <a:xfrm>
              <a:off x="1676520" y="167652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47920" y="16002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隐蔽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895480" y="1600200"/>
            <a:ext cx="1828800" cy="825120"/>
            <a:chOff x="2895480" y="1600200"/>
            <a:chExt cx="1828800" cy="825120"/>
          </a:xfrm>
        </p:grpSpPr>
        <p:sp>
          <p:nvSpPr>
            <p:cNvPr id="65" name=""/>
            <p:cNvSpPr/>
            <p:nvPr/>
          </p:nvSpPr>
          <p:spPr>
            <a:xfrm>
              <a:off x="3124080" y="167652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95480" y="16002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弃去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343400" y="1600200"/>
            <a:ext cx="1828800" cy="825120"/>
            <a:chOff x="4343400" y="1600200"/>
            <a:chExt cx="1828800" cy="825120"/>
          </a:xfrm>
        </p:grpSpPr>
        <p:sp>
          <p:nvSpPr>
            <p:cNvPr id="68" name=""/>
            <p:cNvSpPr/>
            <p:nvPr/>
          </p:nvSpPr>
          <p:spPr>
            <a:xfrm>
              <a:off x="4572000" y="167652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43400" y="16002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慎重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91320" y="1600200"/>
            <a:ext cx="1828800" cy="825120"/>
            <a:chOff x="5791320" y="1600200"/>
            <a:chExt cx="1828800" cy="825120"/>
          </a:xfrm>
        </p:grpSpPr>
        <p:sp>
          <p:nvSpPr>
            <p:cNvPr id="71" name=""/>
            <p:cNvSpPr/>
            <p:nvPr/>
          </p:nvSpPr>
          <p:spPr>
            <a:xfrm>
              <a:off x="6019920" y="167652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91320" y="16002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地址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7238880" y="1600200"/>
            <a:ext cx="1828800" cy="825120"/>
            <a:chOff x="7238880" y="1600200"/>
            <a:chExt cx="1828800" cy="825120"/>
          </a:xfrm>
        </p:grpSpPr>
        <p:sp>
          <p:nvSpPr>
            <p:cNvPr id="74" name=""/>
            <p:cNvSpPr/>
            <p:nvPr/>
          </p:nvSpPr>
          <p:spPr>
            <a:xfrm>
              <a:off x="7467480" y="167652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238880" y="16002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挖掘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752480" y="457200"/>
            <a:ext cx="1143000" cy="1008360"/>
            <a:chOff x="1752480" y="457200"/>
            <a:chExt cx="1143000" cy="1008360"/>
          </a:xfrm>
        </p:grpSpPr>
        <p:sp>
          <p:nvSpPr>
            <p:cNvPr id="77" name=""/>
            <p:cNvSpPr/>
            <p:nvPr/>
          </p:nvSpPr>
          <p:spPr>
            <a:xfrm>
              <a:off x="1752480" y="533520"/>
              <a:ext cx="114300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28800" y="4572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蔽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200400" y="457200"/>
            <a:ext cx="1143000" cy="1008360"/>
            <a:chOff x="3200400" y="457200"/>
            <a:chExt cx="1143000" cy="1008360"/>
          </a:xfrm>
        </p:grpSpPr>
        <p:sp>
          <p:nvSpPr>
            <p:cNvPr id="80" name=""/>
            <p:cNvSpPr/>
            <p:nvPr/>
          </p:nvSpPr>
          <p:spPr>
            <a:xfrm>
              <a:off x="3200400" y="533520"/>
              <a:ext cx="114300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6720" y="4572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弃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648320" y="457200"/>
            <a:ext cx="1143000" cy="1008360"/>
            <a:chOff x="4648320" y="457200"/>
            <a:chExt cx="1143000" cy="1008360"/>
          </a:xfrm>
        </p:grpSpPr>
        <p:sp>
          <p:nvSpPr>
            <p:cNvPr id="83" name=""/>
            <p:cNvSpPr/>
            <p:nvPr/>
          </p:nvSpPr>
          <p:spPr>
            <a:xfrm>
              <a:off x="4648320" y="533520"/>
              <a:ext cx="114300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24640" y="4572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慎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095880" y="457200"/>
            <a:ext cx="1143000" cy="1008360"/>
            <a:chOff x="6095880" y="457200"/>
            <a:chExt cx="1143000" cy="1008360"/>
          </a:xfrm>
        </p:grpSpPr>
        <p:sp>
          <p:nvSpPr>
            <p:cNvPr id="86" name=""/>
            <p:cNvSpPr/>
            <p:nvPr/>
          </p:nvSpPr>
          <p:spPr>
            <a:xfrm>
              <a:off x="6095880" y="533520"/>
              <a:ext cx="114300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72200" y="4572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址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7543800" y="457200"/>
            <a:ext cx="1143000" cy="1008360"/>
            <a:chOff x="7543800" y="457200"/>
            <a:chExt cx="1143000" cy="1008360"/>
          </a:xfrm>
        </p:grpSpPr>
        <p:sp>
          <p:nvSpPr>
            <p:cNvPr id="89" name=""/>
            <p:cNvSpPr/>
            <p:nvPr/>
          </p:nvSpPr>
          <p:spPr>
            <a:xfrm>
              <a:off x="7543800" y="533520"/>
              <a:ext cx="114300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20120" y="4572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掘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04920" y="2757600"/>
            <a:ext cx="1143000" cy="1008360"/>
            <a:chOff x="304920" y="2757600"/>
            <a:chExt cx="1143000" cy="1008360"/>
          </a:xfrm>
        </p:grpSpPr>
        <p:sp>
          <p:nvSpPr>
            <p:cNvPr id="92" name=""/>
            <p:cNvSpPr/>
            <p:nvPr/>
          </p:nvSpPr>
          <p:spPr>
            <a:xfrm>
              <a:off x="304920" y="2833560"/>
              <a:ext cx="11430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1240" y="27576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搜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0" y="3900600"/>
            <a:ext cx="1828800" cy="825120"/>
            <a:chOff x="0" y="3900600"/>
            <a:chExt cx="1828800" cy="825120"/>
          </a:xfrm>
        </p:grpSpPr>
        <p:sp>
          <p:nvSpPr>
            <p:cNvPr id="95" name=""/>
            <p:cNvSpPr/>
            <p:nvPr/>
          </p:nvSpPr>
          <p:spPr>
            <a:xfrm>
              <a:off x="228600" y="3976560"/>
              <a:ext cx="1371600" cy="6854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06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搜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447920" y="3900600"/>
            <a:ext cx="1828800" cy="825120"/>
            <a:chOff x="1447920" y="3900600"/>
            <a:chExt cx="1828800" cy="825120"/>
          </a:xfrm>
        </p:grpSpPr>
        <p:sp>
          <p:nvSpPr>
            <p:cNvPr id="98" name=""/>
            <p:cNvSpPr/>
            <p:nvPr/>
          </p:nvSpPr>
          <p:spPr>
            <a:xfrm>
              <a:off x="1676520" y="3976560"/>
              <a:ext cx="1371600" cy="6854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47920" y="39006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骤雨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895480" y="3900600"/>
            <a:ext cx="1828800" cy="825120"/>
            <a:chOff x="2895480" y="3900600"/>
            <a:chExt cx="1828800" cy="825120"/>
          </a:xfrm>
        </p:grpSpPr>
        <p:sp>
          <p:nvSpPr>
            <p:cNvPr id="101" name=""/>
            <p:cNvSpPr/>
            <p:nvPr/>
          </p:nvSpPr>
          <p:spPr>
            <a:xfrm>
              <a:off x="3124080" y="3976560"/>
              <a:ext cx="1371600" cy="6854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95480" y="39006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粗糙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343400" y="3900600"/>
            <a:ext cx="1828800" cy="825120"/>
            <a:chOff x="4343400" y="3900600"/>
            <a:chExt cx="1828800" cy="825120"/>
          </a:xfrm>
        </p:grpSpPr>
        <p:sp>
          <p:nvSpPr>
            <p:cNvPr id="104" name=""/>
            <p:cNvSpPr/>
            <p:nvPr/>
          </p:nvSpPr>
          <p:spPr>
            <a:xfrm>
              <a:off x="4572000" y="3976560"/>
              <a:ext cx="1371600" cy="6854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3400" y="39006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简朴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791320" y="3900600"/>
            <a:ext cx="1828800" cy="825120"/>
            <a:chOff x="5791320" y="3900600"/>
            <a:chExt cx="1828800" cy="825120"/>
          </a:xfrm>
        </p:grpSpPr>
        <p:sp>
          <p:nvSpPr>
            <p:cNvPr id="107" name=""/>
            <p:cNvSpPr/>
            <p:nvPr/>
          </p:nvSpPr>
          <p:spPr>
            <a:xfrm>
              <a:off x="6019920" y="3976560"/>
              <a:ext cx="1371600" cy="6854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1320" y="39006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干燥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7238880" y="3900600"/>
            <a:ext cx="1828800" cy="825120"/>
            <a:chOff x="7238880" y="3900600"/>
            <a:chExt cx="1828800" cy="825120"/>
          </a:xfrm>
        </p:grpSpPr>
        <p:sp>
          <p:nvSpPr>
            <p:cNvPr id="110" name=""/>
            <p:cNvSpPr/>
            <p:nvPr/>
          </p:nvSpPr>
          <p:spPr>
            <a:xfrm>
              <a:off x="7467480" y="3976560"/>
              <a:ext cx="1371600" cy="6854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38880" y="39006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钳子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752480" y="2757600"/>
            <a:ext cx="1143000" cy="1008360"/>
            <a:chOff x="1752480" y="2757600"/>
            <a:chExt cx="1143000" cy="1008360"/>
          </a:xfrm>
        </p:grpSpPr>
        <p:sp>
          <p:nvSpPr>
            <p:cNvPr id="113" name=""/>
            <p:cNvSpPr/>
            <p:nvPr/>
          </p:nvSpPr>
          <p:spPr>
            <a:xfrm>
              <a:off x="1752480" y="2833560"/>
              <a:ext cx="11430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28800" y="27576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骤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200400" y="2757600"/>
            <a:ext cx="1143000" cy="1008360"/>
            <a:chOff x="3200400" y="2757600"/>
            <a:chExt cx="1143000" cy="1008360"/>
          </a:xfrm>
        </p:grpSpPr>
        <p:sp>
          <p:nvSpPr>
            <p:cNvPr id="116" name=""/>
            <p:cNvSpPr/>
            <p:nvPr/>
          </p:nvSpPr>
          <p:spPr>
            <a:xfrm>
              <a:off x="3200400" y="2833560"/>
              <a:ext cx="11430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27576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糙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2757600"/>
            <a:ext cx="1143000" cy="1008360"/>
            <a:chOff x="4648320" y="2757600"/>
            <a:chExt cx="1143000" cy="1008360"/>
          </a:xfrm>
        </p:grpSpPr>
        <p:sp>
          <p:nvSpPr>
            <p:cNvPr id="119" name=""/>
            <p:cNvSpPr/>
            <p:nvPr/>
          </p:nvSpPr>
          <p:spPr>
            <a:xfrm>
              <a:off x="4648320" y="2833560"/>
              <a:ext cx="11430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24640" y="27576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朴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095880" y="2757600"/>
            <a:ext cx="1143000" cy="1008360"/>
            <a:chOff x="6095880" y="2757600"/>
            <a:chExt cx="1143000" cy="1008360"/>
          </a:xfrm>
        </p:grpSpPr>
        <p:sp>
          <p:nvSpPr>
            <p:cNvPr id="122" name=""/>
            <p:cNvSpPr/>
            <p:nvPr/>
          </p:nvSpPr>
          <p:spPr>
            <a:xfrm>
              <a:off x="6095880" y="2833560"/>
              <a:ext cx="11430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72200" y="27576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燥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543800" y="2757600"/>
            <a:ext cx="1143000" cy="1008360"/>
            <a:chOff x="7543800" y="2757600"/>
            <a:chExt cx="1143000" cy="1008360"/>
          </a:xfrm>
        </p:grpSpPr>
        <p:sp>
          <p:nvSpPr>
            <p:cNvPr id="125" name=""/>
            <p:cNvSpPr/>
            <p:nvPr/>
          </p:nvSpPr>
          <p:spPr>
            <a:xfrm>
              <a:off x="7543800" y="2833560"/>
              <a:ext cx="11430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0120" y="27576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钳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04920" y="5118120"/>
            <a:ext cx="8516880" cy="1434960"/>
            <a:chOff x="304920" y="5118120"/>
            <a:chExt cx="8516880" cy="1434960"/>
          </a:xfrm>
        </p:grpSpPr>
        <p:pic>
          <p:nvPicPr>
            <p:cNvPr id="128" name="NA00763_" descr=""/>
            <p:cNvPicPr/>
            <p:nvPr/>
          </p:nvPicPr>
          <p:blipFill>
            <a:blip r:embed="rId1"/>
            <a:stretch/>
          </p:blipFill>
          <p:spPr>
            <a:xfrm>
              <a:off x="304920" y="5118120"/>
              <a:ext cx="333504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NA00763_" descr=""/>
            <p:cNvPicPr/>
            <p:nvPr/>
          </p:nvPicPr>
          <p:blipFill>
            <a:blip r:embed="rId2"/>
            <a:stretch/>
          </p:blipFill>
          <p:spPr>
            <a:xfrm>
              <a:off x="1398600" y="5118120"/>
              <a:ext cx="333540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NA00763_" descr=""/>
            <p:cNvPicPr/>
            <p:nvPr/>
          </p:nvPicPr>
          <p:blipFill>
            <a:blip r:embed="rId3"/>
            <a:stretch/>
          </p:blipFill>
          <p:spPr>
            <a:xfrm>
              <a:off x="2546280" y="5118120"/>
              <a:ext cx="333540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NA00763_" descr=""/>
            <p:cNvPicPr/>
            <p:nvPr/>
          </p:nvPicPr>
          <p:blipFill>
            <a:blip r:embed="rId4"/>
            <a:stretch/>
          </p:blipFill>
          <p:spPr>
            <a:xfrm>
              <a:off x="3693960" y="5118120"/>
              <a:ext cx="333540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NA00763_" descr=""/>
            <p:cNvPicPr/>
            <p:nvPr/>
          </p:nvPicPr>
          <p:blipFill>
            <a:blip r:embed="rId5"/>
            <a:stretch/>
          </p:blipFill>
          <p:spPr>
            <a:xfrm>
              <a:off x="4800600" y="5118120"/>
              <a:ext cx="333540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NA00763_" descr=""/>
            <p:cNvPicPr/>
            <p:nvPr/>
          </p:nvPicPr>
          <p:blipFill>
            <a:blip r:embed="rId6"/>
            <a:stretch/>
          </p:blipFill>
          <p:spPr>
            <a:xfrm>
              <a:off x="5486400" y="5118120"/>
              <a:ext cx="3335400" cy="14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"/>
          <p:cNvSpPr/>
          <p:nvPr/>
        </p:nvSpPr>
        <p:spPr>
          <a:xfrm>
            <a:off x="685800" y="5334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5334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5334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334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162920" y="5181480"/>
            <a:ext cx="1523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生字</a:t>
            </a:r>
            <a:endParaRPr b="0" lang="en-US" sz="60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1:22:08Z</dcterms:created>
  <dc:creator>tf</dc:creator>
  <dc:description/>
  <dc:language>en-US</dc:language>
  <cp:lastModifiedBy>wangliping</cp:lastModifiedBy>
  <dcterms:modified xsi:type="dcterms:W3CDTF">2002-11-07T02:26:10Z</dcterms:modified>
  <cp:revision>2</cp:revision>
  <dc:subject/>
  <dc:title>PowerPoint 演示文稿</dc:title>
</cp:coreProperties>
</file>