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9294-2263-419F-86E6-85EC4F79A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3BB9-229E-4757-846E-AFFEC92F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ABF0-AFFB-4706-A098-32FE222FF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FB1A-74A9-4AFD-9FD9-3FEFB5C33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7476-4F88-49F8-8586-D38D5ACD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C6A5-1B49-4DC2-9A3C-5B3855C9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36B3-E5D3-4D6A-8B77-8BCEA5A9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15DD-D221-462E-BBE6-DDF37227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41BC-8348-4EB4-9F5F-AA7C7A85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2934-BEFD-4F63-BC8D-BC2385F7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9E2F-3DE1-4033-9859-BB27A4EF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F4B1-0B7F-4B5A-9AB4-97BA441D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B81A-645F-41D3-95DD-8BEA36944A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317680" y="1971720"/>
            <a:ext cx="45068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彩云"/>
              </a:rPr>
              <a:t>6</a:t>
            </a:r>
            <a:r>
              <a:rPr b="0" lang="zh-CN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彩云"/>
              </a:rPr>
              <a:t>、峨 眉 道 上</a:t>
            </a:r>
            <a:endParaRPr b="0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19040" y="1670040"/>
            <a:ext cx="8420040" cy="30801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自由朗读课文，想想课文主要写了什么事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指名朗读课文，纠正读音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小组内说说课文的主要内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默读课文，看一看哪些内容写的是作者看到或听到的；哪些内容写的是作者想到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小组内交换意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班内汇报交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533520"/>
            <a:ext cx="1828800" cy="581400"/>
          </a:xfrm>
          <a:prstGeom prst="rect">
            <a:avLst/>
          </a:prstGeom>
          <a:solidFill>
            <a:srgbClr val="ffcc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小组学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685800"/>
            <a:ext cx="281952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生 字 注 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78480" y="32767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55000" y="32004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83800" y="32004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07680" y="32004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31920" y="32004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666880"/>
            <a:ext cx="1219320" cy="549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t3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2666880"/>
            <a:ext cx="1219320" cy="549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w8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2666880"/>
            <a:ext cx="1219320" cy="549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t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15000" y="2666880"/>
            <a:ext cx="1219320" cy="549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zypyyb"/>
                <a:ea typeface="zypyyb"/>
              </a:rPr>
              <a:t>s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38880" y="2666880"/>
            <a:ext cx="1219320" cy="549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zypyyb"/>
                <a:ea typeface="zypyyb"/>
              </a:rPr>
              <a:t>l$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78480" y="52578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凿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55000" y="51814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览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83800" y="51814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愧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07680" y="51814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31920" y="51814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4648320"/>
            <a:ext cx="1219320" cy="549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z2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4648320"/>
            <a:ext cx="1219320" cy="549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l3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4648320"/>
            <a:ext cx="1219320" cy="549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zypyyb"/>
                <a:ea typeface="zypyyb"/>
              </a:rPr>
              <a:t>ku@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4648320"/>
            <a:ext cx="1219320" cy="549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zypyyb"/>
                <a:ea typeface="zypyyb"/>
              </a:rPr>
              <a:t>j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238880" y="4648320"/>
            <a:ext cx="1219320" cy="549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xi2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743200" y="609480"/>
            <a:ext cx="41338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自主学习，合作探究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51460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峨眉山上的路是怎样铺成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为什么说铺路人是真正的无名英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520" y="15238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小结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铺路人所付出的艰辛劳动是我们常人难以想象的，然而，当游人沿着石板的阶梯，一边登山一边欣赏沿途的秀丽风光时，又有谁会想到那些默默无闻的铺路人呢？他们才是真正的无名英雄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yw-xx00233%5B1%5D" descr=""/>
          <p:cNvPicPr/>
          <p:nvPr/>
        </p:nvPicPr>
        <p:blipFill>
          <a:blip r:embed="rId2"/>
          <a:stretch/>
        </p:blipFill>
        <p:spPr>
          <a:xfrm>
            <a:off x="2590920" y="228600"/>
            <a:ext cx="4214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8T06:33:03Z</dcterms:created>
  <dc:creator>lichengquan</dc:creator>
  <dc:description/>
  <dc:language>en-US</dc:language>
  <cp:lastModifiedBy>zhou</cp:lastModifiedBy>
  <dcterms:modified xsi:type="dcterms:W3CDTF">2003-03-27T03:18:11Z</dcterms:modified>
  <cp:revision>9</cp:revision>
  <dc:subject/>
  <dc:title>PowerPoint 演示文稿</dc:title>
</cp:coreProperties>
</file>