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45.jpeg" ContentType="image/jpeg"/>
  <Override PartName="/ppt/media/image33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1.png" ContentType="image/png"/>
  <Override PartName="/ppt/media/image43.jpeg" ContentType="image/jpeg"/>
  <Override PartName="/ppt/media/image37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media/image38.jpeg" ContentType="image/jpeg"/>
  <Override PartName="/ppt/media/image35.gif" ContentType="image/gif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26.jpeg" ContentType="image/jpeg"/>
  <Override PartName="/ppt/media/image4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6DA3-2198-4099-AB1D-E0E2046A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2256-A5C2-40D8-BC21-DA272A04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3B2B-6F00-4082-BD68-C7965FCA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349-BEB4-45C7-BCEC-E59705D8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95C4-330D-4A1F-9B10-5746910E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4E3B-712B-45D8-A2D4-6717E470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7935-A770-4BC7-875A-84ED9645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780A-14BB-422B-AA0B-8951969B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2DA3-458C-44BC-82A7-D5681B4C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1024-2ACD-4E0A-AC5B-75BCBD82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968D-0142-4F8D-A9DD-AE594DB1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4A4C-09AB-44F7-BEAE-10447366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AE31-0AB8-4425-820B-C88A5917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0147-205D-4510-9145-138471EF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C155-D077-47FC-A5E4-C5AD9394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8303-876B-409B-87E7-E532BF42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C612-5462-4F05-9AC2-1B47D7A4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C318-95C7-4AAD-8D84-47023F2A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CBCB-99E7-4581-8C23-97FE9EC4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B027-08C4-4F73-9117-D79AA4AB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FD64-6803-4A85-895B-5B97E30D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2AD3-3D37-4DCA-8904-B599B8EE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6981-34B5-48DB-AC5F-E36BF05C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CF55-39C9-4726-8EEE-A721E150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8640"/>
            <a:ext cx="8152920" cy="1599840"/>
            <a:chOff x="457200" y="99864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840" y="998640"/>
              <a:ext cx="572328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3760" y="1163520"/>
              <a:ext cx="572328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2360" y="1384200"/>
              <a:ext cx="572040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099B-8CEF-41BB-819F-578860CCB9C6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998640"/>
            <a:ext cx="8152920" cy="1599840"/>
            <a:chOff x="457200" y="99864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840" y="998640"/>
              <a:ext cx="572328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3760" y="1163520"/>
              <a:ext cx="572328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2360" y="1384200"/>
              <a:ext cx="572040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6D55-C8E8-41FF-B67D-2064C436018A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" Target=""/><Relationship Id="rId7" Type="http://schemas.openxmlformats.org/officeDocument/2006/relationships/slide" Target="slide19.xm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" Target="slide1.xml"/><Relationship Id="rId6" Type="http://schemas.openxmlformats.org/officeDocument/2006/relationships/image" Target="../media/image35.gi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7.jpeg"/><Relationship Id="rId3" Type="http://schemas.openxmlformats.org/officeDocument/2006/relationships/image" Target="../media/image39.jpeg"/><Relationship Id="rId4" Type="http://schemas.openxmlformats.org/officeDocument/2006/relationships/image" Target="../media/image9.jpeg"/><Relationship Id="rId5" Type="http://schemas.openxmlformats.org/officeDocument/2006/relationships/image" Target="../media/image40.jpe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1.xml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" Target="slide1.xml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52480" y="68580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长     城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2" name="blank9" descr=""/>
          <p:cNvPicPr/>
          <p:nvPr/>
        </p:nvPicPr>
        <p:blipFill>
          <a:blip r:embed="rId2"/>
          <a:stretch/>
        </p:blipFill>
        <p:spPr>
          <a:xfrm>
            <a:off x="533520" y="5867280"/>
            <a:ext cx="1542960" cy="838440"/>
          </a:xfrm>
          <a:prstGeom prst="rect">
            <a:avLst/>
          </a:prstGeom>
          <a:ln w="0">
            <a:noFill/>
          </a:ln>
        </p:spPr>
      </p:pic>
      <p:pic>
        <p:nvPicPr>
          <p:cNvPr id="93" name="blank9" descr=""/>
          <p:cNvPicPr/>
          <p:nvPr/>
        </p:nvPicPr>
        <p:blipFill>
          <a:blip r:embed="rId3"/>
          <a:stretch/>
        </p:blipFill>
        <p:spPr>
          <a:xfrm>
            <a:off x="2819520" y="5905440"/>
            <a:ext cx="1600200" cy="838440"/>
          </a:xfrm>
          <a:prstGeom prst="rect">
            <a:avLst/>
          </a:prstGeom>
          <a:ln w="0">
            <a:noFill/>
          </a:ln>
        </p:spPr>
      </p:pic>
      <p:pic>
        <p:nvPicPr>
          <p:cNvPr id="94" name="blank9" descr=""/>
          <p:cNvPicPr/>
          <p:nvPr/>
        </p:nvPicPr>
        <p:blipFill>
          <a:blip r:embed="rId4"/>
          <a:stretch/>
        </p:blipFill>
        <p:spPr>
          <a:xfrm>
            <a:off x="5181480" y="5867280"/>
            <a:ext cx="1524240" cy="838440"/>
          </a:xfrm>
          <a:prstGeom prst="rect">
            <a:avLst/>
          </a:prstGeom>
          <a:ln w="0">
            <a:noFill/>
          </a:ln>
        </p:spPr>
      </p:pic>
      <p:pic>
        <p:nvPicPr>
          <p:cNvPr id="95" name="blank9" descr=""/>
          <p:cNvPicPr/>
          <p:nvPr/>
        </p:nvPicPr>
        <p:blipFill>
          <a:blip r:embed="rId5"/>
          <a:stretch/>
        </p:blipFill>
        <p:spPr>
          <a:xfrm>
            <a:off x="7543800" y="5943600"/>
            <a:ext cx="144792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38080" y="6095880"/>
            <a:ext cx="99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cc"/>
                </a:solidFill>
                <a:uFillTx/>
                <a:latin typeface="Times New Roman"/>
                <a:hlinkClick r:id="rId6" action="ppaction://hlinksldjump"/>
              </a:rPr>
              <a:t>长城风姿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095880"/>
            <a:ext cx="1143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cc"/>
                </a:solidFill>
                <a:uFillTx/>
                <a:latin typeface="Times New Roman"/>
                <a:hlinkClick r:id="rId7" action="ppaction://hlinksldjump"/>
              </a:rPr>
              <a:t>资料介绍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609588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cc"/>
                </a:solidFill>
                <a:uFillTx/>
                <a:latin typeface="Times New Roman"/>
                <a:hlinkClick r:id="rId8" action="ppaction://hlinksldjump"/>
              </a:rPr>
              <a:t>字的读音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2400" y="6095880"/>
            <a:ext cx="1143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cc"/>
                </a:solidFill>
                <a:uFillTx/>
                <a:latin typeface="Times New Roman"/>
                <a:hlinkClick r:id="rId9" action="ppaction://hlinksldjump"/>
              </a:rPr>
              <a:t>段落分析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c09(3)" descr=""/>
          <p:cNvPicPr/>
          <p:nvPr/>
        </p:nvPicPr>
        <p:blipFill>
          <a:blip r:embed="rId2"/>
          <a:stretch/>
        </p:blipFill>
        <p:spPr>
          <a:xfrm>
            <a:off x="1371600" y="304920"/>
            <a:ext cx="6781680" cy="6248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200" y="914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景是仙鸾描画出   形为天马负图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4000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c00055sm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191960" y="380880"/>
            <a:ext cx="10335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峰高华岳三千丈   险据秦关百二重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4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cc00072js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828800" y="55627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崤虎口夸天险   九折羊肠确地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4000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cc00130jsl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3429000" cy="2305080"/>
          </a:xfrm>
          <a:prstGeom prst="rect">
            <a:avLst/>
          </a:prstGeom>
          <a:ln w="0">
            <a:noFill/>
          </a:ln>
        </p:spPr>
      </p:pic>
      <p:pic>
        <p:nvPicPr>
          <p:cNvPr id="124" name="cc00095jsl" descr=""/>
          <p:cNvPicPr/>
          <p:nvPr/>
        </p:nvPicPr>
        <p:blipFill>
          <a:blip r:embed="rId3"/>
          <a:stretch/>
        </p:blipFill>
        <p:spPr>
          <a:xfrm>
            <a:off x="4876920" y="3808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25" name="cc00138wfs" descr=""/>
          <p:cNvPicPr/>
          <p:nvPr/>
        </p:nvPicPr>
        <p:blipFill>
          <a:blip r:embed="rId4"/>
          <a:stretch/>
        </p:blipFill>
        <p:spPr>
          <a:xfrm>
            <a:off x="685800" y="3429000"/>
            <a:ext cx="3429000" cy="2438280"/>
          </a:xfrm>
          <a:prstGeom prst="rect">
            <a:avLst/>
          </a:prstGeom>
          <a:ln w="0">
            <a:noFill/>
          </a:ln>
        </p:spPr>
      </p:pic>
      <p:pic>
        <p:nvPicPr>
          <p:cNvPr id="126" name="cc00151wfs" descr=""/>
          <p:cNvPicPr/>
          <p:nvPr/>
        </p:nvPicPr>
        <p:blipFill>
          <a:blip r:embed="rId5"/>
          <a:stretch/>
        </p:blipFill>
        <p:spPr>
          <a:xfrm>
            <a:off x="4876920" y="3398760"/>
            <a:ext cx="3581280" cy="24685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c-020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95280" y="51814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百万控弦嗟往事    一鞭冷月踏居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4000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cc00202xsy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924360" cy="6248160"/>
          </a:xfrm>
          <a:prstGeom prst="rect">
            <a:avLst/>
          </a:prstGeom>
          <a:ln w="0">
            <a:noFill/>
          </a:ln>
        </p:spPr>
      </p:pic>
      <p:pic>
        <p:nvPicPr>
          <p:cNvPr id="130" name="cc-021" descr=""/>
          <p:cNvPicPr/>
          <p:nvPr/>
        </p:nvPicPr>
        <p:blipFill>
          <a:blip r:embed="rId2"/>
          <a:stretch/>
        </p:blipFill>
        <p:spPr>
          <a:xfrm>
            <a:off x="4343400" y="304920"/>
            <a:ext cx="4495680" cy="3054240"/>
          </a:xfrm>
          <a:prstGeom prst="rect">
            <a:avLst/>
          </a:prstGeom>
          <a:ln w="0">
            <a:noFill/>
          </a:ln>
        </p:spPr>
      </p:pic>
      <p:pic>
        <p:nvPicPr>
          <p:cNvPr id="131" name="nj03" descr=""/>
          <p:cNvPicPr/>
          <p:nvPr/>
        </p:nvPicPr>
        <p:blipFill>
          <a:blip r:embed="rId3"/>
          <a:stretch/>
        </p:blipFill>
        <p:spPr>
          <a:xfrm>
            <a:off x="4419720" y="3733920"/>
            <a:ext cx="4419360" cy="27432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jyg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981080" y="571500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餐口狼牙严垛牒   悬壁长城啸长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3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jyg05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8076960" cy="4738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43000" y="5715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隶书"/>
              </a:rPr>
              <a:t>驼铃孤烟随风逝    夕阳犹照嘉峪关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3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cc-022" descr=""/>
          <p:cNvPicPr/>
          <p:nvPr/>
        </p:nvPicPr>
        <p:blipFill>
          <a:blip r:embed="rId2"/>
          <a:stretch/>
        </p:blipFill>
        <p:spPr>
          <a:xfrm>
            <a:off x="0" y="4648320"/>
            <a:ext cx="9144000" cy="1676160"/>
          </a:xfrm>
          <a:prstGeom prst="rect">
            <a:avLst/>
          </a:prstGeom>
          <a:ln w="0">
            <a:noFill/>
          </a:ln>
        </p:spPr>
      </p:pic>
      <p:pic>
        <p:nvPicPr>
          <p:cNvPr id="137" name="cc-022" descr="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138" name="liupanshan" descr=""/>
          <p:cNvPicPr/>
          <p:nvPr/>
        </p:nvPicPr>
        <p:blipFill>
          <a:blip r:embed="rId4"/>
          <a:stretch/>
        </p:blipFill>
        <p:spPr>
          <a:xfrm>
            <a:off x="0" y="144792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139" name="006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857160" cy="4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819520" y="685800"/>
            <a:ext cx="3019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隶书"/>
              </a:rPr>
              <a:t>长城简介</a:t>
            </a:r>
            <a:endParaRPr b="1" lang="en-US" sz="4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1752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长城是中华民族的象征，是我们伟大祖国的象征。两千一百多年前，秦始皇统一中国后，为了抵御外来侵略，下令修筑长城。现在我们看到的长城东起山海关，西至嘉峪关，蜿蜒一万两千余里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31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$greatwall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828800" y="5715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重关深锁白云收  天际诸峰黛色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4000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秦始皇" descr=""/>
          <p:cNvPicPr/>
          <p:nvPr/>
        </p:nvPicPr>
        <p:blipFill>
          <a:blip r:embed="rId2"/>
          <a:stretch/>
        </p:blipFill>
        <p:spPr>
          <a:xfrm>
            <a:off x="3809880" y="533520"/>
            <a:ext cx="3429000" cy="5567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80680" y="1143000"/>
            <a:ext cx="729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秦始皇像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380880" y="5257800"/>
            <a:ext cx="8458200" cy="1320840"/>
            <a:chOff x="380880" y="5257800"/>
            <a:chExt cx="8458200" cy="1320840"/>
          </a:xfrm>
        </p:grpSpPr>
        <p:pic>
          <p:nvPicPr>
            <p:cNvPr id="145" name="01-3" descr=""/>
            <p:cNvPicPr/>
            <p:nvPr/>
          </p:nvPicPr>
          <p:blipFill>
            <a:blip r:embed="rId2"/>
            <a:stretch/>
          </p:blipFill>
          <p:spPr>
            <a:xfrm>
              <a:off x="380880" y="5257800"/>
              <a:ext cx="1086120" cy="13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01-4" descr=""/>
            <p:cNvPicPr/>
            <p:nvPr/>
          </p:nvPicPr>
          <p:blipFill>
            <a:blip r:embed="rId3"/>
            <a:stretch/>
          </p:blipFill>
          <p:spPr>
            <a:xfrm>
              <a:off x="1828800" y="5257800"/>
              <a:ext cx="114300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112206_sml" descr=""/>
            <p:cNvPicPr/>
            <p:nvPr/>
          </p:nvPicPr>
          <p:blipFill>
            <a:blip r:embed="rId4"/>
            <a:stretch/>
          </p:blipFill>
          <p:spPr>
            <a:xfrm>
              <a:off x="3352680" y="5257800"/>
              <a:ext cx="1143000" cy="13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26" descr=""/>
            <p:cNvPicPr/>
            <p:nvPr/>
          </p:nvPicPr>
          <p:blipFill>
            <a:blip r:embed="rId5"/>
            <a:stretch/>
          </p:blipFill>
          <p:spPr>
            <a:xfrm>
              <a:off x="4876920" y="5257800"/>
              <a:ext cx="1218960" cy="13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990704" descr=""/>
            <p:cNvPicPr/>
            <p:nvPr/>
          </p:nvPicPr>
          <p:blipFill>
            <a:blip r:embed="rId6"/>
            <a:stretch/>
          </p:blipFill>
          <p:spPr>
            <a:xfrm>
              <a:off x="6324480" y="5257800"/>
              <a:ext cx="11430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990705" descr=""/>
            <p:cNvPicPr/>
            <p:nvPr/>
          </p:nvPicPr>
          <p:blipFill>
            <a:blip r:embed="rId7"/>
            <a:stretch/>
          </p:blipFill>
          <p:spPr>
            <a:xfrm>
              <a:off x="7772400" y="5257800"/>
              <a:ext cx="1066680" cy="129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" name="chmap" descr=""/>
          <p:cNvPicPr/>
          <p:nvPr/>
        </p:nvPicPr>
        <p:blipFill>
          <a:blip r:embed="rId8"/>
          <a:stretch/>
        </p:blipFill>
        <p:spPr>
          <a:xfrm>
            <a:off x="380880" y="1447920"/>
            <a:ext cx="8382240" cy="3671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438280" y="380880"/>
            <a:ext cx="449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文鼎行楷碑体"/>
              </a:rPr>
              <a:t>长   城   图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006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857160" cy="47952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0" y="1371600"/>
            <a:ext cx="9296280" cy="1461960"/>
            <a:chOff x="0" y="1371600"/>
            <a:chExt cx="9296280" cy="1461960"/>
          </a:xfrm>
        </p:grpSpPr>
        <p:sp>
          <p:nvSpPr>
            <p:cNvPr id="155" name=""/>
            <p:cNvSpPr/>
            <p:nvPr/>
          </p:nvSpPr>
          <p:spPr>
            <a:xfrm>
              <a:off x="1066680" y="2423880"/>
              <a:ext cx="3812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1447920" y="2043000"/>
              <a:ext cx="0" cy="3808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47920" y="2043000"/>
              <a:ext cx="45720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05120" y="2043000"/>
              <a:ext cx="0" cy="3808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05120" y="2423880"/>
              <a:ext cx="3808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05120" y="2423880"/>
              <a:ext cx="3808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286000" y="2043000"/>
              <a:ext cx="0" cy="3808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86000" y="2043000"/>
              <a:ext cx="45720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43200" y="2043000"/>
              <a:ext cx="0" cy="3808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43200" y="2423880"/>
              <a:ext cx="3808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43200" y="2423880"/>
              <a:ext cx="3808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24080" y="2043000"/>
              <a:ext cx="0" cy="3808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24080" y="2043000"/>
              <a:ext cx="45720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81280" y="2043000"/>
              <a:ext cx="0" cy="3808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81280" y="2423880"/>
              <a:ext cx="3812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81280" y="2423880"/>
              <a:ext cx="3812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962520" y="2043000"/>
              <a:ext cx="0" cy="3808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2043000"/>
              <a:ext cx="45720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9720" y="2043000"/>
              <a:ext cx="0" cy="3808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19720" y="2423880"/>
              <a:ext cx="3808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19720" y="2423880"/>
              <a:ext cx="3808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800600" y="2043000"/>
              <a:ext cx="0" cy="3808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2043000"/>
              <a:ext cx="45720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57800" y="2043000"/>
              <a:ext cx="0" cy="3808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2423880"/>
              <a:ext cx="3808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00200" y="2500200"/>
              <a:ext cx="152280" cy="152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38280" y="2500200"/>
              <a:ext cx="152640" cy="152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76720" y="2500200"/>
              <a:ext cx="152280" cy="152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14800" y="2500200"/>
              <a:ext cx="152280" cy="152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52880" y="2500200"/>
              <a:ext cx="152640" cy="152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19320" y="1371600"/>
              <a:ext cx="976320" cy="97632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1585800"/>
              <a:ext cx="1295280" cy="459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瞭望口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62720" y="2347920"/>
              <a:ext cx="1218960" cy="485640"/>
            </a:xfrm>
            <a:prstGeom prst="leftArrow">
              <a:avLst>
                <a:gd name="adj1" fmla="val 50000"/>
                <a:gd name="adj2" fmla="val 62750"/>
              </a:avLst>
            </a:prstGeom>
            <a:solidFill>
              <a:srgbClr val="ff660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34320" y="2347920"/>
              <a:ext cx="2361960" cy="459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cc"/>
                  </a:solidFill>
                  <a:latin typeface="Times New Roman"/>
                </a:rPr>
                <a:t>射口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85800" y="350532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齿形墙总的称为“垛子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齿形墙凹下去的部分称为“瞭望口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齿形墙上用来射箭的洞称为“射口”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6529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2209680"/>
            <a:ext cx="5562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魄    </a:t>
            </a:r>
            <a:r>
              <a:rPr b="1" lang="zh-CN" sz="3600" spc="-1" strike="noStrike">
                <a:solidFill>
                  <a:srgbClr val="ff0000"/>
                </a:solidFill>
                <a:latin typeface="zypyyb"/>
                <a:ea typeface="zypyyb"/>
              </a:rPr>
              <a:t>p^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屯   </a:t>
            </a:r>
            <a:r>
              <a:rPr b="1" lang="zh-CN" sz="3600" spc="-1" strike="noStrike">
                <a:solidFill>
                  <a:srgbClr val="ff0000"/>
                </a:solidFill>
                <a:latin typeface="zypyyb"/>
                <a:ea typeface="zypyyb"/>
              </a:rPr>
              <a:t>t*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崇    </a:t>
            </a:r>
            <a:r>
              <a:rPr b="1" lang="zh-CN" sz="3600" spc="-1" strike="noStrike">
                <a:solidFill>
                  <a:srgbClr val="ff0000"/>
                </a:solidFill>
                <a:latin typeface="zypyyb"/>
                <a:ea typeface="zypyyb"/>
              </a:rPr>
              <a:t>ch$ng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砖  </a:t>
            </a:r>
            <a:r>
              <a:rPr b="1" lang="zh-CN" sz="3600" spc="-1" strike="noStrike">
                <a:solidFill>
                  <a:srgbClr val="ff0000"/>
                </a:solidFill>
                <a:latin typeface="zypyyb"/>
                <a:ea typeface="zypyyb"/>
              </a:rPr>
              <a:t>zhu1n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蜿    </a:t>
            </a:r>
            <a:r>
              <a:rPr b="1" lang="zh-CN" sz="3600" spc="-1" strike="noStrike">
                <a:solidFill>
                  <a:srgbClr val="ff0000"/>
                </a:solidFill>
                <a:latin typeface="zypyyb"/>
                <a:ea typeface="zypyyb"/>
              </a:rPr>
              <a:t>w1n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蜒   </a:t>
            </a:r>
            <a:r>
              <a:rPr b="1" lang="zh-CN" sz="3600" spc="-1" strike="noStrike">
                <a:solidFill>
                  <a:srgbClr val="ff0000"/>
                </a:solidFill>
                <a:latin typeface="zypyyb"/>
                <a:ea typeface="zypyyb"/>
              </a:rPr>
              <a:t>y2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11430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字的读音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3" name="006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571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3880" y="144792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12952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一段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23623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写远看长城，介绍了长城的总貌。“像一条长龙”是从形象上总写，这个比喻生动地表现了长城的长和雄伟的气势。第二句用具体数字说明长城的长。第三句用从太空拍摄的地球照片能清楚地看到长城的事实，强调了长城是人类建筑史上的伟大奇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95280" y="12193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二段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22860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写近看长城，具体介绍长城的结构。这一段着重讲了长城的高大坚固。课文从长城的建筑材料、城墙顶上的样子、城墙外侧的垛口的构造和作用、城台的样子、城台之间的距离和它们的作用等方面作了具体说明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523880" y="1295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三段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24382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第三段写作者的联想，歌颂了我国古代劳动人民的智慧和力量。课文以条石为例，说明修筑长城的艰辛。“数不清”说明条石之多，工程之大；“一块有两三千斤”说明条石之重，工程之艰苦；“没有……没有……”“就靠无数的肩膀无数的手”说明当时设备简陋，条件极差；山势陡峭进一步说明了工程的艰难。在这基础上发出了对我国劳动人民的赞叹，指出长城是我国古代劳动人民血汗和智慧的结晶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1295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四段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2438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写长城在世界文明史上的地位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60020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中心思想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23623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本文描绘了气势雄伟、高大坚固的万里长城，赞美了长城的雄伟气魄，歌颂了我国古代劳动人民的智慧和力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5" name="006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8571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01-1" descr=""/>
          <p:cNvPicPr/>
          <p:nvPr/>
        </p:nvPicPr>
        <p:blipFill>
          <a:blip r:embed="rId2"/>
          <a:stretch/>
        </p:blipFill>
        <p:spPr>
          <a:xfrm>
            <a:off x="990720" y="457200"/>
            <a:ext cx="4800600" cy="5943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464880" y="990720"/>
            <a:ext cx="115524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地控黄河北   山连紫塞长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4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01-3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76520" y="57150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云海苍茫龙长啸  回首已是大江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4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12206_sml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3657600" cy="6019920"/>
          </a:xfrm>
          <a:prstGeom prst="rect">
            <a:avLst/>
          </a:prstGeom>
          <a:ln w="0">
            <a:noFill/>
          </a:ln>
        </p:spPr>
      </p:pic>
      <p:pic>
        <p:nvPicPr>
          <p:cNvPr id="107" name="cc00309jk" descr=""/>
          <p:cNvPicPr/>
          <p:nvPr/>
        </p:nvPicPr>
        <p:blipFill>
          <a:blip r:embed="rId3"/>
          <a:stretch/>
        </p:blipFill>
        <p:spPr>
          <a:xfrm>
            <a:off x="5029200" y="533520"/>
            <a:ext cx="3505320" cy="59436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21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7924680" cy="4952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66680" y="57913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地扼襟喉通朔漠   天留锁钥枕雄关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4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228600"/>
          <a:ext cx="9144000" cy="464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676520" y="556272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华文行楷"/>
                <a:ea typeface="华文行楷"/>
              </a:rPr>
              <a:t>奇雾微蒸远山翠  神龙见首不见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4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51" descr=""/>
          <p:cNvPicPr/>
          <p:nvPr/>
        </p:nvPicPr>
        <p:blipFill>
          <a:blip r:embed="rId2"/>
          <a:stretch/>
        </p:blipFill>
        <p:spPr>
          <a:xfrm>
            <a:off x="198108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5720" y="533520"/>
            <a:ext cx="667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两京锁钥无双地  万里长城第一关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4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666880" y="838080"/>
            <a:ext cx="5562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长虹卧波                        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           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双龙共舞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4000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11:43:57Z</dcterms:created>
  <dc:creator>joe</dc:creator>
  <dc:description/>
  <dc:language>en-US</dc:language>
  <cp:lastModifiedBy>Administrator</cp:lastModifiedBy>
  <dcterms:modified xsi:type="dcterms:W3CDTF">2005-06-06T01:19:55Z</dcterms:modified>
  <cp:revision>43</cp:revision>
  <dc:subject/>
  <dc:title>没有幻灯片标题</dc:title>
</cp:coreProperties>
</file>