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A61-5B15-448D-9CF2-4E0BC481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452-8976-497B-9471-9F9F36BD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D23-209C-4B55-B48A-04F46D11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398-EC02-4069-9B75-57D93587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F00A-6B8A-461D-A23A-A0FD79D2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25D8-3A3E-4836-89AB-513E4B70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0DF3-CB3F-4884-9055-DE336EC0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EB52-138D-4BE6-A383-45711E7B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3649-21B9-4C47-BD82-BD25FA5C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6120-9F62-4625-A49A-193D3C25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9071-400E-4B52-9CDC-6F61DB76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1B5-B27B-4078-A0E3-8D5530E4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B3F4-3D91-4A23-9F1C-92B225BE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D9FA-6D96-48F5-B6F0-E4595984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75D5-F887-4674-A6D8-F040810D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3BE1-2469-4D75-864B-A734AFF6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2DDB-0DC7-4026-A74B-DD95CD6B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C37-0D12-48DB-AA35-B4411419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1FAE-1368-4BB0-A798-D1B806D3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DE7-FBE2-40FF-A5E8-2461E7F3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ABF-7109-481A-829B-71694FF3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20D-A48F-4958-9EFD-8355A895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8F8-DEA4-4C77-BCC2-0496B9D8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0F4-3A9A-4469-AF30-408E852C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8B3E-8645-4D51-8340-73FFCE321064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95D9-1991-4177-AF1F-3E4F132B1588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83808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黑体"/>
              </a:rPr>
              <a:t>课程标题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92360" y="3357720"/>
            <a:ext cx="42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651640" y="6237360"/>
            <a:ext cx="338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黑体"/>
              </a:rPr>
              <a:t>清华同方思科教研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322200" y="68904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引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322200" y="155736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任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49228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5" action="ppaction://hlinksldjump"/>
              </a:rPr>
              <a:t>资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2200" y="335448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6" action="ppaction://hlinksldjump"/>
              </a:rPr>
              <a:t>过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2200" y="414504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7" action="ppaction://hlinksldjump"/>
              </a:rPr>
              <a:t>评价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2200" y="501012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8" action="ppaction://hlinksldjump"/>
              </a:rPr>
              <a:t>结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484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副标题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引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引言的具体内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6320" y="96696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引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76320" y="183528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任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60" y="277020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5" action="ppaction://hlinksldjump"/>
              </a:rPr>
              <a:t>资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363204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6" action="ppaction://hlinksldjump"/>
              </a:rPr>
              <a:t>过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442260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7" action="ppaction://hlinksldjump"/>
              </a:rPr>
              <a:t>评价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528804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8" action="ppaction://hlinksldjump"/>
              </a:rPr>
              <a:t>结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任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具体任务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任务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任务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6320" y="96696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引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76320" y="183528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任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60" y="277020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5" action="ppaction://hlinksldjump"/>
              </a:rPr>
              <a:t>资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363204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6" action="ppaction://hlinksldjump"/>
              </a:rPr>
              <a:t>过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442260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7" action="ppaction://hlinksldjump"/>
              </a:rPr>
              <a:t>评价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320" y="528804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8" action="ppaction://hlinksldjump"/>
              </a:rPr>
              <a:t>结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资源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课本资源：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.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2.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局域网资源：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.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2.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互联网资源：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.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2.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6320" y="96696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引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76320" y="183528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任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760" y="277020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5" action="ppaction://hlinksldjump"/>
              </a:rPr>
              <a:t>资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363204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6" action="ppaction://hlinksldjump"/>
              </a:rPr>
              <a:t>过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442260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7" action="ppaction://hlinksldjump"/>
              </a:rPr>
              <a:t>评价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528804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8" action="ppaction://hlinksldjump"/>
              </a:rPr>
              <a:t>结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过程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1412640"/>
            <a:ext cx="7448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确定探究具体方向：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楷体_GB2312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寻找相关资料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6320" y="96696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引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76320" y="183528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任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60" y="277020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5" action="ppaction://hlinksldjump"/>
              </a:rPr>
              <a:t>资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320" y="363204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6" action="ppaction://hlinksldjump"/>
              </a:rPr>
              <a:t>过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442260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7" action="ppaction://hlinksldjump"/>
              </a:rPr>
              <a:t>评价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28804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8" action="ppaction://hlinksldjump"/>
              </a:rPr>
              <a:t>结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评价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典范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具体条件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优秀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具体条件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良好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具体条件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合格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具体条件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6320" y="96696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引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76320" y="183528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任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760" y="277020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5" action="ppaction://hlinksldjump"/>
              </a:rPr>
              <a:t>资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363204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6" action="ppaction://hlinksldjump"/>
              </a:rPr>
              <a:t>过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4422600"/>
            <a:ext cx="10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7" action="ppaction://hlinksldjump"/>
              </a:rPr>
              <a:t>评价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52880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隶书"/>
              </a:rPr>
              <a:t>结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结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具体结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320" y="9669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隶书"/>
              </a:rPr>
              <a:t>引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320" y="1835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隶书"/>
              </a:rPr>
              <a:t>任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60" y="27702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隶书"/>
              </a:rPr>
              <a:t>资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36320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隶书"/>
              </a:rPr>
              <a:t>过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20" y="44226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隶书"/>
              </a:rPr>
              <a:t>评价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52880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结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endshow"/>
          </p:cNvPr>
          <p:cNvSpPr/>
          <p:nvPr/>
        </p:nvSpPr>
        <p:spPr>
          <a:xfrm>
            <a:off x="8229600" y="63086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aea"/>
                </a:solidFill>
                <a:latin typeface="华文行楷"/>
                <a:ea typeface="华文行楷"/>
              </a:rPr>
              <a:t>退  出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07:49:11Z</dcterms:created>
  <dc:creator>清华同方思科</dc:creator>
  <dc:description>摘要(100字以内)</dc:description>
  <cp:keywords>级别 附标题 其它关键词</cp:keywords>
  <dc:language>en-US</dc:language>
  <cp:lastModifiedBy>a</cp:lastModifiedBy>
  <dcterms:modified xsi:type="dcterms:W3CDTF">2003-04-17T08:23:35Z</dcterms:modified>
  <cp:revision>4</cp:revision>
  <dc:subject>标明课题(不要主标题和附标题)</dc:subject>
  <dc:title>添加文本标题</dc:title>
</cp:coreProperties>
</file>