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EEA-3533-4D7B-A229-0508C7E4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ACB-EEA2-45A9-B788-A656696D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1B8-D961-4683-9B23-E5811AF7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515-DB17-416F-B9CD-60F9CC9E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3FB-7FD1-40B1-BCB3-FF209DD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9EF-4600-4060-B640-1CFFA2E5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8AA-2A6B-4BBB-9C1C-7A6B2D2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774-21F7-4185-B178-7B120AE9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A6F-AF69-4EAA-9E44-4D1D7C52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56A-C00A-42B8-9822-C5C3116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6B8-F2EC-45AB-8AAA-B70AA62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5DE-2B25-4074-8AEC-66E07A5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BAC-DDA1-4B9A-B3EE-CCBDD4510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447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22</a:t>
            </a: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、富饶的西沙群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3657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贝壳 海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09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362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珊瑚 海参 大龙虾 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654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滩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0825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面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952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岛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968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457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隶书"/>
                <a:ea typeface="隶书"/>
              </a:rPr>
              <a:t>图  片  欣  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ss1xiao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6864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tianyaxiao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4572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9:00:13Z</dcterms:created>
  <dc:creator>lichengquan</dc:creator>
  <dc:description/>
  <dc:language>en-US</dc:language>
  <cp:lastModifiedBy>lichengquan</cp:lastModifiedBy>
  <dcterms:modified xsi:type="dcterms:W3CDTF">2002-10-24T01:52:38Z</dcterms:modified>
  <cp:revision>4</cp:revision>
  <dc:subject/>
  <dc:title>PowerPoint 演示文稿</dc:title>
</cp:coreProperties>
</file>