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261-E4E2-4865-BF24-E7FD417F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92C-966D-4270-BE77-AB1BBA12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073-11BC-4711-9364-852D98B2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9BD-734D-43A6-A1A2-1A88C3BD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219-137A-4171-A623-053AC550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453-1F68-4D64-A945-B863DA6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022-E657-42D4-86DE-5E65D91F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0BA-A6CD-487B-86A6-B21439E8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628-8C8D-4934-B68F-E5D0572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8A6-7904-4D19-81AC-414C4B8B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B93-D998-4DB2-AFF2-60512CA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452-48F3-458A-9082-01871BF6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6169-67A9-43BE-A371-5007BD477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tu1" descr=""/>
          <p:cNvPicPr/>
          <p:nvPr/>
        </p:nvPicPr>
        <p:blipFill>
          <a:blip r:embed="rId2"/>
          <a:stretch/>
        </p:blipFill>
        <p:spPr>
          <a:xfrm>
            <a:off x="0" y="-38160"/>
            <a:ext cx="7238880" cy="689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38880" y="990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游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1720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2482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掩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244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斗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4006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枪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4768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tu2" descr=""/>
          <p:cNvPicPr/>
          <p:nvPr/>
        </p:nvPicPr>
        <p:blipFill>
          <a:blip r:embed="rId2"/>
          <a:stretch/>
        </p:blipFill>
        <p:spPr>
          <a:xfrm>
            <a:off x="-76320" y="0"/>
            <a:ext cx="6556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1063800"/>
            <a:ext cx="914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机智勇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066680"/>
            <a:ext cx="1066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热爱祖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0:15:25Z</dcterms:created>
  <dc:creator/>
  <dc:description/>
  <dc:language>en-US</dc:language>
  <cp:lastModifiedBy>wangliping</cp:lastModifiedBy>
  <dcterms:modified xsi:type="dcterms:W3CDTF">2002-10-16T10:25:01Z</dcterms:modified>
  <cp:revision>2</cp:revision>
  <dc:subject/>
  <dc:title>PowerPoint 演示文稿</dc:title>
</cp:coreProperties>
</file>