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0A32-D999-4864-88DD-C038663E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EC54-01F8-4538-881D-C3647234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B09D-7863-45AE-AED2-B98A4732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F3D8-CC66-422D-9F3E-C42162E9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99CA-0D09-42F2-A0F1-51EBBDC0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97DB-2393-4733-9E0D-ACBD64D1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2C92-C8F4-4B29-B3A8-0E457156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BCF5-2F09-4D0D-9235-518ED674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9E9F-9B34-4A34-9C53-D3958403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8364-8C4D-4BCD-A3D6-A24AD8A4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AE41-E7C9-4529-A0DD-CCE149C2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0906-1D12-4DAC-8E10-4628C290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19DE-17C8-411F-94F8-44CE2FCDDB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000" y="144792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zh-CN" sz="7200" spc="-1" strike="noStrike">
                <a:solidFill>
                  <a:srgbClr val="ffff66"/>
                </a:solidFill>
                <a:latin typeface="Times New Roman"/>
              </a:rPr>
              <a:t>键盘指法练习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0" y="0"/>
          <a:ext cx="10439280" cy="742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439280" cy="74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419720" y="5562720"/>
          <a:ext cx="1085760" cy="84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5562720"/>
                    <a:ext cx="108576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267080" y="2286000"/>
          <a:ext cx="1086120" cy="84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2286000"/>
                    <a:ext cx="108612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419720" y="3962520"/>
          <a:ext cx="1085760" cy="84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3962520"/>
                    <a:ext cx="108576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486400" y="3886200"/>
          <a:ext cx="1085760" cy="84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86400" y="3886200"/>
                    <a:ext cx="10857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410080" y="5562720"/>
          <a:ext cx="1086120" cy="84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5562720"/>
                    <a:ext cx="108612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400800" y="5562720"/>
          <a:ext cx="1085760" cy="847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00800" y="5562720"/>
                    <a:ext cx="108576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356920" y="2666880"/>
            <a:ext cx="20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k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上 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i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45360" y="1143000"/>
            <a:ext cx="12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你拍一 ，我拍一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88360" y="380880"/>
            <a:ext cx="230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33"/>
                </a:solidFill>
                <a:latin typeface="黑体"/>
                <a:ea typeface="黑体"/>
              </a:rPr>
              <a:t>IE</a:t>
            </a:r>
            <a:r>
              <a:rPr b="1" lang="zh-CN" sz="4000" spc="-1" strike="noStrike">
                <a:solidFill>
                  <a:srgbClr val="99ff33"/>
                </a:solidFill>
                <a:latin typeface="楷体_GB2312"/>
                <a:ea typeface="黑体"/>
              </a:rPr>
              <a:t>指法</a:t>
            </a:r>
            <a:r>
              <a:rPr b="1" lang="zh-CN" sz="4000" spc="-1" strike="noStrike">
                <a:solidFill>
                  <a:srgbClr val="99ff33"/>
                </a:solidFill>
                <a:latin typeface="黑体"/>
                <a:ea typeface="黑体"/>
              </a:rPr>
              <a:t>拍手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38360" y="1905120"/>
            <a:ext cx="14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I E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键位要牢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3280" y="3505320"/>
            <a:ext cx="32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右中击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i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回到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k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3280" y="4572000"/>
            <a:ext cx="32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左中击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e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回到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36400" y="2743200"/>
            <a:ext cx="20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上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e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0880" y="2209680"/>
            <a:ext cx="8244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合格标准：正确率 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100 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％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                    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打字速度   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30 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字以上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/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合格放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红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盖：获                         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称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22860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打开《金山打字通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打开“</a:t>
            </a:r>
            <a:r>
              <a:rPr b="0" lang="zh-CN" sz="4000" spc="-1" strike="noStrike">
                <a:solidFill>
                  <a:srgbClr val="99ff33"/>
                </a:solidFill>
                <a:latin typeface="Times New Roman"/>
              </a:rPr>
              <a:t>指法练习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”中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        “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21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字母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 E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”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文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191120" y="3962520"/>
            <a:ext cx="3047760" cy="990360"/>
            <a:chOff x="4191120" y="3962520"/>
            <a:chExt cx="3047760" cy="990360"/>
          </a:xfrm>
        </p:grpSpPr>
        <p:sp>
          <p:nvSpPr>
            <p:cNvPr id="142" name=""/>
            <p:cNvSpPr/>
            <p:nvPr/>
          </p:nvSpPr>
          <p:spPr>
            <a:xfrm>
              <a:off x="4191120" y="3962520"/>
              <a:ext cx="3047760" cy="9903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3400" y="4114440"/>
              <a:ext cx="2743200" cy="6854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19720" y="4038480"/>
              <a:ext cx="2590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指法标兵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755640" y="907920"/>
          <a:ext cx="7993080" cy="542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907920"/>
                    <a:ext cx="7993080" cy="54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55800" y="4762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手指分工要弄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150920" y="3500280"/>
            <a:ext cx="7740720" cy="1446840"/>
            <a:chOff x="1150920" y="3500280"/>
            <a:chExt cx="7740720" cy="1446840"/>
          </a:xfrm>
        </p:grpSpPr>
        <p:sp>
          <p:nvSpPr>
            <p:cNvPr id="149" name=""/>
            <p:cNvSpPr/>
            <p:nvPr/>
          </p:nvSpPr>
          <p:spPr>
            <a:xfrm>
              <a:off x="1187280" y="3500280"/>
              <a:ext cx="770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左食 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f ,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左中 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d ,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左无 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s 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来 左小 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a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0920" y="4365720"/>
              <a:ext cx="7155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右食 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j ,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右中 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k ,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右无 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l 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来 右小 </a:t>
              </a:r>
              <a:r>
                <a:rPr b="0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;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057400" y="1523880"/>
            <a:ext cx="5249880" cy="1549800"/>
            <a:chOff x="2057400" y="1523880"/>
            <a:chExt cx="5249880" cy="1549800"/>
          </a:xfrm>
        </p:grpSpPr>
        <p:sp>
          <p:nvSpPr>
            <p:cNvPr id="152" name=""/>
            <p:cNvSpPr/>
            <p:nvPr/>
          </p:nvSpPr>
          <p:spPr>
            <a:xfrm>
              <a:off x="2057400" y="1523880"/>
              <a:ext cx="5181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66"/>
                  </a:solidFill>
                  <a:latin typeface="黑体"/>
                  <a:ea typeface="黑体"/>
                </a:rPr>
                <a:t>A  S  D  F    J   K  L  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95640" y="2492280"/>
              <a:ext cx="511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黑体"/>
                  <a:ea typeface="黑体"/>
                </a:rPr>
                <a:t>a  s  d  f    j  k  l  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0" y="609480"/>
            <a:ext cx="531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反复练习得真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1828800"/>
          <a:ext cx="914400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424320" y="16765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八个键位记心中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43120" y="25146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手指分工要弄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4320" y="34290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手指不离基本键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43120" y="42670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反复练习得真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61680" y="5875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ff33"/>
                </a:solidFill>
                <a:latin typeface="Times New Roman"/>
                <a:ea typeface="楷体_GB2312"/>
              </a:rPr>
              <a:t>盲 打 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87680" y="5335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手指不离基本键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438280" y="1828800"/>
            <a:ext cx="4648320" cy="1981080"/>
            <a:chOff x="2438280" y="1828800"/>
            <a:chExt cx="4648320" cy="1981080"/>
          </a:xfrm>
        </p:grpSpPr>
        <p:graphicFrame>
          <p:nvGraphicFramePr>
            <p:cNvPr id="49" name=""/>
            <p:cNvGraphicFramePr/>
            <p:nvPr/>
          </p:nvGraphicFramePr>
          <p:xfrm>
            <a:off x="2438280" y="1828800"/>
            <a:ext cx="4648320" cy="198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1828800"/>
                      <a:ext cx="464832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" name=""/>
            <p:cNvGraphicFramePr/>
            <p:nvPr/>
          </p:nvGraphicFramePr>
          <p:xfrm>
            <a:off x="4142520" y="3189600"/>
            <a:ext cx="309960" cy="265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42520" y="3189600"/>
                      <a:ext cx="309960" cy="2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" name=""/>
            <p:cNvGraphicFramePr/>
            <p:nvPr/>
          </p:nvGraphicFramePr>
          <p:xfrm>
            <a:off x="5072040" y="3189600"/>
            <a:ext cx="309960" cy="293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72040" y="3189600"/>
                      <a:ext cx="309960" cy="29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66680" y="0"/>
          <a:ext cx="7315200" cy="66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0"/>
                    <a:ext cx="73152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352680" y="838080"/>
            <a:ext cx="453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</a:rPr>
              <a:t>I  </a:t>
            </a:r>
            <a:r>
              <a:rPr b="1" lang="zh-CN" sz="6000" spc="-1" strike="noStrike">
                <a:solidFill>
                  <a:srgbClr val="ffff66"/>
                </a:solidFill>
                <a:latin typeface="Times New Roman"/>
              </a:rPr>
              <a:t>键  </a:t>
            </a:r>
            <a:r>
              <a:rPr b="1" lang="zh-CN" sz="6000" spc="-1" strike="noStrike">
                <a:solidFill>
                  <a:srgbClr val="ffff66"/>
                </a:solidFill>
                <a:latin typeface="Times New Roman"/>
              </a:rPr>
              <a:t>E   </a:t>
            </a:r>
            <a:r>
              <a:rPr b="1" lang="zh-CN" sz="6000" spc="-1" strike="noStrike">
                <a:solidFill>
                  <a:srgbClr val="ffff66"/>
                </a:solidFill>
                <a:latin typeface="Times New Roman"/>
              </a:rPr>
              <a:t>键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08360" y="3357720"/>
            <a:ext cx="26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黑体"/>
                <a:ea typeface="黑体"/>
              </a:rPr>
              <a:t>i  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80000" y="2060640"/>
            <a:ext cx="324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66"/>
                </a:solidFill>
                <a:latin typeface="黑体"/>
                <a:ea typeface="黑体"/>
              </a:rPr>
              <a:t>I  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09680" y="6858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66"/>
                </a:solidFill>
                <a:latin typeface="黑体"/>
                <a:ea typeface="黑体"/>
              </a:rPr>
              <a:t>k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上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09480" y="2743200"/>
            <a:ext cx="7543800" cy="3048120"/>
            <a:chOff x="609480" y="2743200"/>
            <a:chExt cx="7543800" cy="3048120"/>
          </a:xfrm>
        </p:grpSpPr>
        <p:grpSp>
          <p:nvGrpSpPr>
            <p:cNvPr id="62" name=""/>
            <p:cNvGrpSpPr/>
            <p:nvPr/>
          </p:nvGrpSpPr>
          <p:grpSpPr>
            <a:xfrm>
              <a:off x="609480" y="2743200"/>
              <a:ext cx="7543800" cy="3048120"/>
              <a:chOff x="609480" y="2743200"/>
              <a:chExt cx="7543800" cy="3048120"/>
            </a:xfrm>
          </p:grpSpPr>
          <p:graphicFrame>
            <p:nvGraphicFramePr>
              <p:cNvPr id="63" name=""/>
              <p:cNvGraphicFramePr/>
              <p:nvPr/>
            </p:nvGraphicFramePr>
            <p:xfrm>
              <a:off x="609480" y="2743200"/>
              <a:ext cx="7543800" cy="3048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09480" y="2743200"/>
                        <a:ext cx="7543800" cy="3048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5" name=""/>
              <p:cNvGraphicFramePr/>
              <p:nvPr/>
            </p:nvGraphicFramePr>
            <p:xfrm>
              <a:off x="3375360" y="4836600"/>
              <a:ext cx="502920" cy="408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375360" y="4836600"/>
                        <a:ext cx="502920" cy="408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7" name=""/>
              <p:cNvGraphicFramePr/>
              <p:nvPr/>
            </p:nvGraphicFramePr>
            <p:xfrm>
              <a:off x="4884120" y="4836600"/>
              <a:ext cx="502920" cy="4518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884120" y="4836600"/>
                        <a:ext cx="502920" cy="451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69" name=""/>
            <p:cNvGraphicFramePr/>
            <p:nvPr/>
          </p:nvGraphicFramePr>
          <p:xfrm>
            <a:off x="2495160" y="3999240"/>
            <a:ext cx="502560" cy="418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495160" y="3999240"/>
                      <a:ext cx="502560" cy="41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" name=""/>
            <p:cNvGraphicFramePr/>
            <p:nvPr/>
          </p:nvGraphicFramePr>
          <p:xfrm>
            <a:off x="5010120" y="3999240"/>
            <a:ext cx="502560" cy="418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10120" y="3999240"/>
                      <a:ext cx="502560" cy="41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3" name=""/>
          <p:cNvGrpSpPr/>
          <p:nvPr/>
        </p:nvGrpSpPr>
        <p:grpSpPr>
          <a:xfrm>
            <a:off x="990720" y="685800"/>
            <a:ext cx="5562360" cy="921960"/>
            <a:chOff x="990720" y="685800"/>
            <a:chExt cx="5562360" cy="921960"/>
          </a:xfrm>
        </p:grpSpPr>
        <p:sp>
          <p:nvSpPr>
            <p:cNvPr id="74" name=""/>
            <p:cNvSpPr/>
            <p:nvPr/>
          </p:nvSpPr>
          <p:spPr>
            <a:xfrm>
              <a:off x="990720" y="685800"/>
              <a:ext cx="556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</a:rPr>
                <a:t>、</a:t>
              </a:r>
              <a:r>
                <a:rPr b="1" lang="zh-CN" sz="28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i</a:t>
              </a:r>
              <a:r>
                <a:rPr b="0" lang="zh-CN" sz="2400" spc="-1" strike="noStrike">
                  <a:solidFill>
                    <a:srgbClr val="ffff66"/>
                  </a:solidFill>
                  <a:latin typeface="Times New Roman"/>
                </a:rPr>
                <a:t>在（      ）键的（        ）方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46560" y="1087200"/>
              <a:ext cx="362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</a:rPr>
                <a:t>、 </a:t>
              </a:r>
              <a:r>
                <a:rPr b="1" lang="zh-CN" sz="2800" spc="-1" strike="noStrike">
                  <a:solidFill>
                    <a:srgbClr val="ffff66"/>
                  </a:solidFill>
                  <a:latin typeface="黑体"/>
                  <a:ea typeface="黑体"/>
                </a:rPr>
                <a:t>e</a:t>
              </a:r>
              <a:r>
                <a:rPr b="1" lang="zh-CN" sz="2800" spc="-1" strike="noStrike">
                  <a:solidFill>
                    <a:srgbClr val="ffff66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ffff66"/>
                  </a:solidFill>
                  <a:latin typeface="Times New Roman"/>
                </a:rPr>
                <a:t>在（      ）键的（        ）方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819520" y="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看键盘讨论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066680" y="1600200"/>
            <a:ext cx="6400800" cy="993240"/>
            <a:chOff x="1066680" y="1600200"/>
            <a:chExt cx="6400800" cy="993240"/>
          </a:xfrm>
        </p:grpSpPr>
        <p:sp>
          <p:nvSpPr>
            <p:cNvPr id="78" name=""/>
            <p:cNvSpPr/>
            <p:nvPr/>
          </p:nvSpPr>
          <p:spPr>
            <a:xfrm>
              <a:off x="1066680" y="1600200"/>
              <a:ext cx="640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66"/>
                  </a:solidFill>
                  <a:latin typeface="Times New Roman"/>
                </a:rPr>
                <a:t>3</a:t>
              </a:r>
              <a:r>
                <a:rPr b="0" lang="zh-CN" sz="2400" spc="-1" strike="noStrike">
                  <a:solidFill>
                    <a:srgbClr val="ffff66"/>
                  </a:solidFill>
                  <a:latin typeface="Times New Roman"/>
                </a:rPr>
                <a:t>、 </a:t>
              </a:r>
              <a:r>
                <a:rPr b="1" lang="zh-CN" sz="2800" spc="-1" strike="noStrike">
                  <a:solidFill>
                    <a:srgbClr val="ffff66"/>
                  </a:solidFill>
                  <a:latin typeface="Times New Roman"/>
                </a:rPr>
                <a:t>i </a:t>
              </a:r>
              <a:r>
                <a:rPr b="0" lang="zh-CN" sz="2400" spc="-1" strike="noStrike">
                  <a:solidFill>
                    <a:srgbClr val="ffff66"/>
                  </a:solidFill>
                  <a:latin typeface="Times New Roman"/>
                </a:rPr>
                <a:t>用（        ）指， 击完后回（      ）键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03320" y="2133720"/>
              <a:ext cx="421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66"/>
                  </a:solidFill>
                  <a:latin typeface="Times New Roman"/>
                </a:rPr>
                <a:t>4</a:t>
              </a:r>
              <a:r>
                <a:rPr b="0" lang="zh-CN" sz="2400" spc="-1" strike="noStrike">
                  <a:solidFill>
                    <a:srgbClr val="ffff66"/>
                  </a:solidFill>
                  <a:latin typeface="Times New Roman"/>
                </a:rPr>
                <a:t>、</a:t>
              </a:r>
              <a:r>
                <a:rPr b="0" lang="zh-CN" sz="2400" spc="-1" strike="noStrike">
                  <a:solidFill>
                    <a:srgbClr val="ffff66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ffff66"/>
                  </a:solidFill>
                  <a:latin typeface="黑体"/>
                  <a:ea typeface="黑体"/>
                </a:rPr>
                <a:t>e</a:t>
              </a: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ffff66"/>
                  </a:solidFill>
                  <a:latin typeface="Times New Roman"/>
                </a:rPr>
                <a:t>用（        ）指，击完后回（     ）键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433960" y="10857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上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12360" y="1600200"/>
            <a:ext cx="36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右中                                  </a:t>
            </a:r>
            <a:r>
              <a:rPr b="1" lang="zh-CN" sz="2400" spc="-1" strike="noStrike">
                <a:solidFill>
                  <a:srgbClr val="ffff66"/>
                </a:solidFill>
                <a:latin typeface="黑体"/>
                <a:ea typeface="黑体"/>
              </a:rPr>
              <a:t>k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25040" y="2057400"/>
            <a:ext cx="34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左中                                 </a:t>
            </a:r>
            <a:r>
              <a:rPr b="1" lang="zh-CN" sz="2800" spc="-1" strike="noStrike">
                <a:solidFill>
                  <a:srgbClr val="ffff66"/>
                </a:solidFill>
                <a:latin typeface="黑体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356920" y="1371600"/>
            <a:ext cx="20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k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上 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i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7560" y="380880"/>
            <a:ext cx="230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33"/>
                </a:solidFill>
                <a:latin typeface="黑体"/>
                <a:ea typeface="黑体"/>
              </a:rPr>
              <a:t>IE</a:t>
            </a:r>
            <a:r>
              <a:rPr b="1" lang="zh-CN" sz="4000" spc="-1" strike="noStrike">
                <a:solidFill>
                  <a:srgbClr val="99ff33"/>
                </a:solidFill>
                <a:latin typeface="楷体_GB2312"/>
                <a:ea typeface="黑体"/>
              </a:rPr>
              <a:t>指法顺口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43840" y="2209680"/>
            <a:ext cx="344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右中击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i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回到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k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44200" y="3200400"/>
            <a:ext cx="34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左中击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e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回到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12720" y="1371600"/>
            <a:ext cx="20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上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e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0"/>
          <a:ext cx="9144000" cy="65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5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419720" y="5105520"/>
          <a:ext cx="1085760" cy="84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5105520"/>
                    <a:ext cx="108576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267080" y="2133720"/>
          <a:ext cx="1086120" cy="84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2133720"/>
                    <a:ext cx="108612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343400" y="3581280"/>
          <a:ext cx="1085760" cy="847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3581280"/>
                    <a:ext cx="10857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486400" y="3581280"/>
          <a:ext cx="1085760" cy="84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86400" y="3581280"/>
                    <a:ext cx="10857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486400" y="5105520"/>
          <a:ext cx="1085760" cy="84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5105520"/>
                    <a:ext cx="108576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6553080" y="5105520"/>
          <a:ext cx="1086120" cy="847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53080" y="5105520"/>
                    <a:ext cx="108612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0" y="0"/>
          <a:ext cx="9144000" cy="693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9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042920" y="1989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267080" y="5410080"/>
          <a:ext cx="1086120" cy="84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5410080"/>
                    <a:ext cx="108612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5257800" y="5486400"/>
          <a:ext cx="1085760" cy="84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5486400"/>
                    <a:ext cx="10857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172200" y="5486400"/>
          <a:ext cx="1085760" cy="847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2200" y="5486400"/>
                    <a:ext cx="10857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267080" y="2286000"/>
          <a:ext cx="1086120" cy="84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67080" y="2286000"/>
                    <a:ext cx="108612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495680" y="3886200"/>
          <a:ext cx="1086120" cy="84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5680" y="3886200"/>
                    <a:ext cx="108612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5486400" y="3886200"/>
          <a:ext cx="1085760" cy="847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86400" y="3886200"/>
                    <a:ext cx="10857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02:13:44Z</dcterms:created>
  <dc:creator>tf</dc:creator>
  <dc:description/>
  <dc:language>en-US</dc:language>
  <cp:lastModifiedBy>wutao</cp:lastModifiedBy>
  <dcterms:modified xsi:type="dcterms:W3CDTF">2005-10-04T08:07:57Z</dcterms:modified>
  <cp:revision>84</cp:revision>
  <dc:subject/>
  <dc:title>没有幻灯片标题</dc:title>
</cp:coreProperties>
</file>