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12B78-FD3E-495F-AE92-CA97D0BAD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12CA4-F5EB-4B3E-AB82-FC44B41C4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2EA7B-7CEE-47DA-BE38-0275D7C50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40F82-2F8A-4794-A06A-86B050BF7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0CB0F-056F-4F3B-8748-DB38E1010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F0BA2-E75D-4B4C-8CE1-C3AC8338A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9DD1D-BF9B-41E1-AA62-A8A1748CB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0AF17-9B07-4F5B-92B1-1E1BF81DF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9A4ED-C904-4F55-BADC-1381D1FC9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20420-F4DF-4FDE-8128-00D06748A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74116-656A-4AE4-8C0C-6BF867F25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E4B4A-145E-452B-84EB-0EB65EDFE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BACF9-2DC6-47C8-8C1A-7F47C81AFBF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3276720" y="2514600"/>
            <a:ext cx="2901960" cy="3375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2438280" y="2286000"/>
            <a:ext cx="5302440" cy="9144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debcf"/>
                    </a:gs>
                    <a:gs pos="100000">
                      <a:srgbClr val="156b13"/>
                    </a:gs>
                  </a:gsLst>
                  <a:lin ang="5400000"/>
                </a:gradFill>
                <a:latin typeface="宋体"/>
              </a:rPr>
              <a:t>父亲的菜园</a:t>
            </a:r>
            <a:endParaRPr b="0" lang="en-US" sz="7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debcf"/>
                  </a:gs>
                  <a:gs pos="100000">
                    <a:srgbClr val="156b13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菜园图片1" descr=""/>
          <p:cNvPicPr/>
          <p:nvPr/>
        </p:nvPicPr>
        <p:blipFill>
          <a:blip r:embed="rId2"/>
          <a:stretch/>
        </p:blipFill>
        <p:spPr>
          <a:xfrm>
            <a:off x="0" y="0"/>
            <a:ext cx="4572000" cy="3427560"/>
          </a:xfrm>
          <a:prstGeom prst="rect">
            <a:avLst/>
          </a:prstGeom>
          <a:ln w="0">
            <a:noFill/>
          </a:ln>
        </p:spPr>
      </p:pic>
      <p:pic>
        <p:nvPicPr>
          <p:cNvPr id="44" name="菜园图片7" descr=""/>
          <p:cNvPicPr/>
          <p:nvPr/>
        </p:nvPicPr>
        <p:blipFill>
          <a:blip r:embed="rId3"/>
          <a:stretch/>
        </p:blipFill>
        <p:spPr>
          <a:xfrm>
            <a:off x="4572000" y="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45" name="菜园图片3" descr=""/>
          <p:cNvPicPr/>
          <p:nvPr/>
        </p:nvPicPr>
        <p:blipFill>
          <a:blip r:embed="rId4"/>
          <a:stretch/>
        </p:blipFill>
        <p:spPr>
          <a:xfrm>
            <a:off x="0" y="34290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46" name="菜园图片4" descr=""/>
          <p:cNvPicPr/>
          <p:nvPr/>
        </p:nvPicPr>
        <p:blipFill>
          <a:blip r:embed="rId5"/>
          <a:stretch/>
        </p:blipFill>
        <p:spPr>
          <a:xfrm>
            <a:off x="4572000" y="342900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685800"/>
            <a:ext cx="2819520" cy="642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黑体"/>
                <a:ea typeface="黑体"/>
              </a:rPr>
              <a:t>生 字 学 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219320" y="2316600"/>
            <a:ext cx="1218960" cy="109764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zypyyb"/>
                <a:ea typeface="zypyyb"/>
              </a:rPr>
              <a:t>zhē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657600" y="2590920"/>
            <a:ext cx="1219320" cy="54900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zypyyb"/>
                <a:ea typeface="zypyyb"/>
              </a:rPr>
              <a:t>ní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943600" y="2590920"/>
            <a:ext cx="1219320" cy="54900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zypyyb"/>
                <a:ea typeface="zypyyb"/>
              </a:rPr>
              <a:t>chǎ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19920" y="4419720"/>
            <a:ext cx="1218960" cy="54900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zypyyb"/>
                <a:ea typeface="zypyyb"/>
              </a:rPr>
              <a:t>yǐ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1510560" y="3124080"/>
            <a:ext cx="5392800" cy="2745720"/>
            <a:chOff x="1510560" y="3124080"/>
            <a:chExt cx="5392800" cy="2745720"/>
          </a:xfrm>
        </p:grpSpPr>
        <p:sp>
          <p:nvSpPr>
            <p:cNvPr id="53" name=""/>
            <p:cNvSpPr/>
            <p:nvPr/>
          </p:nvSpPr>
          <p:spPr>
            <a:xfrm>
              <a:off x="1510560" y="3200400"/>
              <a:ext cx="5922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400" spc="-1" strike="noStrike">
                  <a:solidFill>
                    <a:srgbClr val="000099"/>
                  </a:solidFill>
                  <a:latin typeface="楷体_GB2312"/>
                  <a:ea typeface="楷体_GB2312"/>
                </a:rPr>
                <a:t>狰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948840" y="3124080"/>
              <a:ext cx="5922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400" spc="-1" strike="noStrike">
                  <a:solidFill>
                    <a:srgbClr val="000099"/>
                  </a:solidFill>
                  <a:latin typeface="楷体_GB2312"/>
                  <a:ea typeface="楷体_GB2312"/>
                </a:rPr>
                <a:t>狞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311160" y="3124080"/>
              <a:ext cx="5922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400" spc="-1" strike="noStrike">
                  <a:solidFill>
                    <a:srgbClr val="000099"/>
                  </a:solidFill>
                  <a:latin typeface="楷体_GB2312"/>
                  <a:ea typeface="楷体_GB2312"/>
                </a:rPr>
                <a:t>炒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11160" y="4952880"/>
              <a:ext cx="5922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400" spc="-1" strike="noStrike">
                  <a:solidFill>
                    <a:srgbClr val="000099"/>
                  </a:solidFill>
                  <a:latin typeface="楷体_GB2312"/>
                  <a:ea typeface="楷体_GB2312"/>
                </a:rPr>
                <a:t>蚓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510560" y="4952880"/>
              <a:ext cx="5922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400" spc="-1" strike="noStrike">
                  <a:solidFill>
                    <a:srgbClr val="000099"/>
                  </a:solidFill>
                  <a:latin typeface="楷体_GB2312"/>
                  <a:ea typeface="楷体_GB2312"/>
                </a:rPr>
                <a:t>伺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872520" y="4876920"/>
              <a:ext cx="5922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400" spc="-1" strike="noStrike">
                  <a:solidFill>
                    <a:srgbClr val="000099"/>
                  </a:solidFill>
                  <a:latin typeface="楷体_GB2312"/>
                  <a:ea typeface="楷体_GB2312"/>
                </a:rPr>
                <a:t>蚯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" name=""/>
          <p:cNvSpPr/>
          <p:nvPr/>
        </p:nvSpPr>
        <p:spPr>
          <a:xfrm>
            <a:off x="1219320" y="4343400"/>
            <a:ext cx="1218960" cy="54900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zypyyb"/>
                <a:ea typeface="zypyyb"/>
              </a:rPr>
              <a:t>cì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657600" y="4343400"/>
            <a:ext cx="1219320" cy="54900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zypyyb"/>
                <a:ea typeface="zypyyb"/>
              </a:rPr>
              <a:t>qī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2771640" y="685800"/>
            <a:ext cx="3600720" cy="5814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自学课文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整体感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04920" y="2055960"/>
            <a:ext cx="8610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6633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663300"/>
                </a:solidFill>
                <a:latin typeface="Times New Roman"/>
              </a:rPr>
              <a:t>、父亲是在什么情况下决定开垦菜园的？他又是怎样开垦菜园的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33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6633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663300"/>
                </a:solidFill>
                <a:latin typeface="Times New Roman"/>
              </a:rPr>
              <a:t>、勾画出描写父亲言行的词句，想想从这些词句里，你感受到了什么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914400" y="609480"/>
            <a:ext cx="7162920" cy="5205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齐读最后一个自然段，深入领会课文内容所表达的思想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父亲的菜园插图" descr=""/>
          <p:cNvPicPr/>
          <p:nvPr/>
        </p:nvPicPr>
        <p:blipFill>
          <a:blip r:embed="rId1"/>
          <a:stretch/>
        </p:blipFill>
        <p:spPr>
          <a:xfrm>
            <a:off x="2387520" y="1600200"/>
            <a:ext cx="436896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08T06:33:03Z</dcterms:created>
  <dc:creator> </dc:creator>
  <dc:description/>
  <dc:language>en-US</dc:language>
  <cp:lastModifiedBy>yf</cp:lastModifiedBy>
  <dcterms:modified xsi:type="dcterms:W3CDTF">2005-12-05T09:39:09Z</dcterms:modified>
  <cp:revision>11</cp:revision>
  <dc:subject/>
  <dc:title>PowerPoint 演示文稿</dc:title>
</cp:coreProperties>
</file>