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EA1-C571-4409-9CF4-72A3653F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DD0E-1070-4401-A70A-7D00EF88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BE3-56FD-46A4-9D3F-B16B4D6A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B211-9097-4D3C-8F49-44777548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0C99-A662-46EA-95CD-E86F2AB5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6606-B589-4085-B2B5-9CF60403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9B59-5570-45F3-B5FC-79E4A7F6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FC78-577C-4460-8CAD-E96268FA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42A4-34B1-4FE6-B07A-C2158879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D201-8704-4910-A62B-7973D27C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B8DF-6092-43CE-9393-8EE7D9D3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B23A-4CA7-4D71-8EE4-7BAB767F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005B-4856-47BE-A706-2C7282F884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未标题-1" descr=""/>
          <p:cNvPicPr/>
          <p:nvPr/>
        </p:nvPicPr>
        <p:blipFill>
          <a:blip r:embed="rId1"/>
          <a:stretch/>
        </p:blipFill>
        <p:spPr>
          <a:xfrm>
            <a:off x="-32767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7720" y="380880"/>
            <a:ext cx="2009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渔夫的故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1500120"/>
            <a:ext cx="8915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魔鬼！”渔夫说道，“所罗门已经死了一千八百年了，你是怎么钻到这个瓶子里的呢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时候渔夫想：“他是个魔鬼，我是个堂堂的人。我的智慧一定能压制他的妖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……于是我非常生气，我说：“从今以后，谁要是来解救我，我一定要杀死他，不过准许他选择怎样死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时候，魔鬼摇身一变，变成一团青烟，逐渐缩成一缕，慢慢地钻进胆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8748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ff"/>
                </a:solidFill>
                <a:latin typeface="Times New Roman"/>
              </a:rPr>
              <a:t>语言描写   诚实善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30178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ff"/>
                </a:solidFill>
                <a:latin typeface="Times New Roman"/>
              </a:rPr>
              <a:t>心理描写      勇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4724280"/>
            <a:ext cx="37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ff"/>
                </a:solidFill>
                <a:latin typeface="Times New Roman"/>
              </a:rPr>
              <a:t>语言描写      凶残虚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62720" y="61419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ff"/>
                </a:solidFill>
                <a:latin typeface="Times New Roman"/>
              </a:rPr>
              <a:t>动作描写      愚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304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析下列各句所使用的描写方法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塑造了什么样的人物形象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rr" descr=""/>
          <p:cNvPicPr/>
          <p:nvPr/>
        </p:nvPicPr>
        <p:blipFill>
          <a:blip r:embed="rId1"/>
          <a:stretch/>
        </p:blipFill>
        <p:spPr>
          <a:xfrm>
            <a:off x="4419720" y="1447920"/>
            <a:ext cx="4724280" cy="5410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3520" y="228600"/>
            <a:ext cx="70866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主题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 个 故 事 说 明 了 什 么 道 理 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752480"/>
            <a:ext cx="3429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正义力量一定能战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邪恶势力，对付魔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那样的凶恶敌人，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能抱有幻想、施加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慈，而要敢于斗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依靠自己的智慧和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量去战胜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4952880"/>
            <a:ext cx="7391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未标题-2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2438280"/>
          </a:xfrm>
          <a:prstGeom prst="rect">
            <a:avLst/>
          </a:prstGeom>
          <a:ln w="0">
            <a:noFill/>
          </a:ln>
        </p:spPr>
      </p:pic>
      <p:pic>
        <p:nvPicPr>
          <p:cNvPr id="85" name="未标题-3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2438280"/>
          </a:xfrm>
          <a:prstGeom prst="rect">
            <a:avLst/>
          </a:prstGeom>
          <a:ln w="0">
            <a:noFill/>
          </a:ln>
        </p:spPr>
      </p:pic>
      <p:pic>
        <p:nvPicPr>
          <p:cNvPr id="86" name="未标题-5" descr=""/>
          <p:cNvPicPr/>
          <p:nvPr/>
        </p:nvPicPr>
        <p:blipFill>
          <a:blip r:embed="rId3"/>
          <a:stretch/>
        </p:blipFill>
        <p:spPr>
          <a:xfrm>
            <a:off x="0" y="2438280"/>
            <a:ext cx="4648320" cy="1981440"/>
          </a:xfrm>
          <a:prstGeom prst="rect">
            <a:avLst/>
          </a:prstGeom>
          <a:ln w="0">
            <a:noFill/>
          </a:ln>
        </p:spPr>
      </p:pic>
      <p:pic>
        <p:nvPicPr>
          <p:cNvPr id="87" name="未标题-4" descr=""/>
          <p:cNvPicPr/>
          <p:nvPr/>
        </p:nvPicPr>
        <p:blipFill>
          <a:blip r:embed="rId4"/>
          <a:stretch/>
        </p:blipFill>
        <p:spPr>
          <a:xfrm>
            <a:off x="4648320" y="2438280"/>
            <a:ext cx="4495680" cy="1981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4292640"/>
            <a:ext cx="88390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情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渔夫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瓶→渔夫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瓶→魔鬼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现身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→渔夫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→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魔鬼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逞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→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魔鬼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入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4267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完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14400" y="2286000"/>
            <a:ext cx="5791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未标题-1" descr="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25320" y="380880"/>
            <a:ext cx="82296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物形象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【                                                            】的渔夫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【                                                            】的魔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注意：渔夫和魔鬼前后心理各发生了怎样的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82520" y="22860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63760" y="114300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诚实、善良、机智、勇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1104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63760" y="18288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凶残、愚蠢、狡猾、虚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鲜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2583000"/>
            <a:ext cx="2438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rrr" descr=""/>
          <p:cNvPicPr/>
          <p:nvPr/>
        </p:nvPicPr>
        <p:blipFill>
          <a:blip r:embed="rId1"/>
          <a:stretch/>
        </p:blipFill>
        <p:spPr>
          <a:xfrm>
            <a:off x="4419720" y="1447920"/>
            <a:ext cx="4724280" cy="5410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33520" y="228600"/>
            <a:ext cx="70866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主题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 个 故 事 说 明 了 什 么 道 理 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752480"/>
            <a:ext cx="3429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正义力量一定能战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邪恶势力，对付魔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那样的凶恶敌人，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能抱有幻想、施加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慈，而要敢于斗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依靠自己的智慧和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量去战胜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228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突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未标题-2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9120" y="1371600"/>
            <a:ext cx="2009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渔 夫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捞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未标题-3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97600" y="1447920"/>
            <a:ext cx="2009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渔夫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开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瓶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485280" y="1447920"/>
            <a:ext cx="20091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魔鬼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现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身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未标题-5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81760" y="1371600"/>
            <a:ext cx="20091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魔鬼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逞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未标题-4" descr="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56440" y="1066680"/>
            <a:ext cx="2009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魔鬼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入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0520" y="1066680"/>
            <a:ext cx="20091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渔夫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投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未标题-2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2895480"/>
          </a:xfrm>
          <a:prstGeom prst="rect">
            <a:avLst/>
          </a:prstGeom>
          <a:ln w="0">
            <a:noFill/>
          </a:ln>
        </p:spPr>
      </p:pic>
      <p:pic>
        <p:nvPicPr>
          <p:cNvPr id="54" name="未标题-3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2895480"/>
          </a:xfrm>
          <a:prstGeom prst="rect">
            <a:avLst/>
          </a:prstGeom>
          <a:ln w="0">
            <a:noFill/>
          </a:ln>
        </p:spPr>
      </p:pic>
      <p:pic>
        <p:nvPicPr>
          <p:cNvPr id="55" name="未标题-5" descr=""/>
          <p:cNvPicPr/>
          <p:nvPr/>
        </p:nvPicPr>
        <p:blipFill>
          <a:blip r:embed="rId3"/>
          <a:stretch/>
        </p:blipFill>
        <p:spPr>
          <a:xfrm>
            <a:off x="0" y="2895480"/>
            <a:ext cx="464832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未标题-4" descr=""/>
          <p:cNvPicPr/>
          <p:nvPr/>
        </p:nvPicPr>
        <p:blipFill>
          <a:blip r:embed="rId4"/>
          <a:stretch/>
        </p:blipFill>
        <p:spPr>
          <a:xfrm>
            <a:off x="4648320" y="2895480"/>
            <a:ext cx="4495680" cy="2667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502128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9880" y="4284720"/>
            <a:ext cx="883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699160"/>
            <a:ext cx="746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渔夫的故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rr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4572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9051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本小节用了什么修辞方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3716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本小节采用了什么描写方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33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4382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本小节表现了魔鬼的什么特征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未标题-5" descr=""/>
          <p:cNvPicPr/>
          <p:nvPr/>
        </p:nvPicPr>
        <p:blipFill>
          <a:blip r:embed="rId1"/>
          <a:stretch/>
        </p:blipFill>
        <p:spPr>
          <a:xfrm>
            <a:off x="42670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533520"/>
            <a:ext cx="37335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魔鬼头像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灯笼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腿像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铁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手像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桅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口像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堡垒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眼睛像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山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牙齿像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白石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鼻孔像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喇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样子非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凶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未标题-1" descr="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520" y="380880"/>
            <a:ext cx="82296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物形象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【                                                            】的渔夫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【                                                            】的魔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注意：渔夫和魔鬼前后心理各发生了怎样的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2860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诚实、善良、机智、勇敢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92160" y="31104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18288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凶残、愚蠢、狡猾、虚伪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ying</cp:lastModifiedBy>
  <dcterms:modified xsi:type="dcterms:W3CDTF">2005-07-18T07:33:05Z</dcterms:modified>
  <cp:revision>17</cp:revision>
  <dc:subject/>
  <dc:title>PowerPoint Presentation</dc:title>
</cp:coreProperties>
</file>