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CF4E-D336-43B7-8723-A9EA1DD6E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AA02-5754-4529-9E96-A69587AB8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2F3D-183B-46DD-BF36-91961FADA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C22F-9DE3-40B5-8BBD-C8FA9FCE3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24EE-B5FF-4327-B39B-CBFD8CAD8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C570-2716-44B4-BA91-39DD2FB43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C45C-0A5E-48EE-A12F-911F52FB7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90D3-8C9D-4459-8351-2AD8E1697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A75D-A62B-45BE-9E00-CEC36FBDC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B66A-9FA4-4676-8DC2-7065A94E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FF64-E705-4F61-82EF-99A319D2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4E1B-070F-4AD2-B36A-6D91378F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9F7E2-3650-4239-82AA-2C3987159E0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file:///tmp/home/.config/libreoffice/4/user/gallery/whoosh.wav" TargetMode="External"/><Relationship Id="rId4" Type="http://schemas.microsoft.com/office/2007/relationships/media" Target="file:///tmp/home/.config/libreoffice/4/user/gallery/whoosh.wav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两只鸟蛋3jp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267080" y="-36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Times New Roman"/>
                <a:ea typeface="黑体"/>
              </a:rPr>
              <a:t>两只鸟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1371600"/>
            <a:ext cx="4419720" cy="1676520"/>
          </a:xfrm>
          <a:prstGeom prst="wedgeRoundRectCallout">
            <a:avLst>
              <a:gd name="adj1" fmla="val -19935"/>
              <a:gd name="adj2" fmla="val 15767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4120" y="4952880"/>
            <a:ext cx="15228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1371600"/>
            <a:ext cx="44960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我从树杈上取下两只鸟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小小的鸟蛋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凉的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拿在手上真好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077320" y="6553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未标题-1%20拷贝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ren-2%20拷贝" descr=""/>
          <p:cNvPicPr/>
          <p:nvPr/>
        </p:nvPicPr>
        <p:blipFill>
          <a:blip r:embed="rId2"/>
          <a:stretch/>
        </p:blipFill>
        <p:spPr>
          <a:xfrm>
            <a:off x="3581280" y="1219320"/>
            <a:ext cx="5830920" cy="7048440"/>
          </a:xfrm>
          <a:prstGeom prst="rect">
            <a:avLst/>
          </a:prstGeom>
          <a:ln w="0">
            <a:noFill/>
          </a:ln>
        </p:spPr>
      </p:pic>
      <p:pic>
        <p:nvPicPr>
          <p:cNvPr id="50" name="未标题-4%20拷贝" descr=""/>
          <p:cNvPicPr/>
          <p:nvPr/>
        </p:nvPicPr>
        <p:blipFill>
          <a:blip r:embed="rId3"/>
          <a:stretch/>
        </p:blipFill>
        <p:spPr>
          <a:xfrm>
            <a:off x="1905120" y="1523880"/>
            <a:ext cx="4767120" cy="6129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343400" y="1447920"/>
            <a:ext cx="4191120" cy="1904760"/>
          </a:xfrm>
          <a:prstGeom prst="cloudCallout">
            <a:avLst>
              <a:gd name="adj1" fmla="val -52310"/>
              <a:gd name="adj2" fmla="val 64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181480" y="205740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724280" y="1828800"/>
            <a:ext cx="384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只鸟蛋就是两只小鸟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鸟妈妈这会儿一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焦急不安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未标题-1%20拷贝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ren-2%20拷贝" descr=""/>
          <p:cNvPicPr/>
          <p:nvPr/>
        </p:nvPicPr>
        <p:blipFill>
          <a:blip r:embed="rId2"/>
          <a:stretch/>
        </p:blipFill>
        <p:spPr>
          <a:xfrm>
            <a:off x="762120" y="1371600"/>
            <a:ext cx="4591080" cy="6210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 flipV="1">
            <a:off x="2286000" y="4647600"/>
            <a:ext cx="15228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00800" y="25146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2133720"/>
            <a:ext cx="4572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我小心地</a:t>
            </a:r>
            <a:r>
              <a:rPr b="0" lang="zh-CN" sz="3600" spc="-1" strike="noStrike">
                <a:solidFill>
                  <a:srgbClr val="cc0000"/>
                </a:solidFill>
                <a:latin typeface="Times New Roman"/>
              </a:rPr>
              <a:t>捧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着鸟蛋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Times New Roman"/>
              </a:rPr>
              <a:t>连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忙走到树边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未标题-1%20拷贝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0" y="2819520"/>
            <a:ext cx="4038480" cy="838080"/>
          </a:xfrm>
          <a:prstGeom prst="flowChartPunchedTap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48320" y="2971800"/>
            <a:ext cx="39621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Times New Roman"/>
              </a:rPr>
              <a:t>轻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轻地把鸟蛋送还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14400" y="1600200"/>
            <a:ext cx="655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未标题-1%20拷贝" descr=""/>
          <p:cNvPicPr/>
          <p:nvPr/>
        </p:nvPicPr>
        <p:blipFill>
          <a:blip r:embed="rId1"/>
          <a:stretch/>
        </p:blipFill>
        <p:spPr>
          <a:xfrm>
            <a:off x="0" y="0"/>
            <a:ext cx="838188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未标题-5%20拷贝" descr=""/>
          <p:cNvPicPr/>
          <p:nvPr/>
        </p:nvPicPr>
        <p:blipFill>
          <a:blip r:embed="rId2"/>
          <a:stretch/>
        </p:blipFill>
        <p:spPr>
          <a:xfrm>
            <a:off x="1143000" y="-1600200"/>
            <a:ext cx="4343400" cy="6676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334120" y="838080"/>
            <a:ext cx="3276360" cy="2514600"/>
          </a:xfrm>
          <a:prstGeom prst="cloudCallout">
            <a:avLst>
              <a:gd name="adj1" fmla="val -9013"/>
              <a:gd name="adj2" fmla="val 767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562720" y="1371600"/>
            <a:ext cx="30477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</a:t>
            </a:r>
            <a:r>
              <a:rPr b="0" lang="zh-CN" sz="2000" spc="-1" strike="noStrike">
                <a:solidFill>
                  <a:srgbClr val="cc0000"/>
                </a:solidFill>
                <a:latin typeface="Times New Roman"/>
              </a:rPr>
              <a:t>仿佛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听见鸟儿的欢唱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Times New Roman"/>
              </a:rPr>
              <a:t>抬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起头来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把目光投</a:t>
            </a:r>
            <a:r>
              <a:rPr b="0" lang="zh-CN" sz="2000" spc="-1" strike="noStrike">
                <a:solidFill>
                  <a:srgbClr val="cc0000"/>
                </a:solidFill>
                <a:latin typeface="Times New Roman"/>
              </a:rPr>
              <a:t>向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高远的蓝天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5T12:05:18Z</dcterms:created>
  <dc:creator>user</dc:creator>
  <dc:description/>
  <dc:language>en-US</dc:language>
  <cp:lastModifiedBy>zjhqxx</cp:lastModifiedBy>
  <dcterms:modified xsi:type="dcterms:W3CDTF">2003-04-17T03:48:42Z</dcterms:modified>
  <cp:revision>9</cp:revision>
  <dc:subject/>
  <dc:title>两只鸟蛋</dc:title>
</cp:coreProperties>
</file>