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02E-4054-4BE0-8FA8-C412D22F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E95-774D-4575-8D31-E4BF04C7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6AC-1B23-4C0E-84DF-B631DA91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4BB-64A5-4573-A557-1AB71C83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8DA-17AA-45A1-A75B-55AAD8C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F1C-A812-4402-9D60-43B9D846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913-C986-4D00-86F7-8940743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F8B-8DBC-4A8C-B647-D598BEE7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A9A-06EB-4264-9394-442C9F6E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BD1-4B18-4B14-A839-B9618634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323-ECE4-4D98-94AE-26F71BC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566-7E4C-445E-8749-9064D721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8AF6-E782-40F9-98FB-316D51D9B0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两只鸟蛋3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6708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黑体"/>
              </a:rPr>
              <a:t>两只鸟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1371600"/>
            <a:ext cx="4419720" cy="1676520"/>
          </a:xfrm>
          <a:prstGeom prst="wedgeRoundRectCallout">
            <a:avLst>
              <a:gd name="adj1" fmla="val -19935"/>
              <a:gd name="adj2" fmla="val 157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49528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137160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从树杈上取下两只鸟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小的鸟蛋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凉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拿在手上真好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077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未标题-1%20拷贝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n-2%20拷贝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5830920" cy="7048440"/>
          </a:xfrm>
          <a:prstGeom prst="rect">
            <a:avLst/>
          </a:prstGeom>
          <a:ln w="0">
            <a:noFill/>
          </a:ln>
        </p:spPr>
      </p:pic>
      <p:pic>
        <p:nvPicPr>
          <p:cNvPr id="50" name="未标题-4%20拷贝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4767120" cy="612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43400" y="1447920"/>
            <a:ext cx="4191120" cy="1904760"/>
          </a:xfrm>
          <a:prstGeom prst="cloudCallout">
            <a:avLst>
              <a:gd name="adj1" fmla="val -52310"/>
              <a:gd name="adj2" fmla="val 64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1828800"/>
            <a:ext cx="38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只鸟蛋就是两只小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鸟妈妈这会儿一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焦急不安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未标题-1%20拷贝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ren-2%20拷贝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4591080" cy="621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2286000" y="464760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2514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13372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小心地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捧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鸟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忙走到树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未标题-1%20拷贝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2819520"/>
            <a:ext cx="4038480" cy="838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971800"/>
            <a:ext cx="3962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轻地把鸟蛋送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60020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未标题-1%20拷贝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未标题-5%20拷贝" descr=""/>
          <p:cNvPicPr/>
          <p:nvPr/>
        </p:nvPicPr>
        <p:blipFill>
          <a:blip r:embed="rId2"/>
          <a:stretch/>
        </p:blipFill>
        <p:spPr>
          <a:xfrm>
            <a:off x="1143000" y="-1600200"/>
            <a:ext cx="4343400" cy="6676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838080"/>
            <a:ext cx="3276360" cy="2514600"/>
          </a:xfrm>
          <a:prstGeom prst="cloudCallout">
            <a:avLst>
              <a:gd name="adj1" fmla="val -9013"/>
              <a:gd name="adj2" fmla="val 76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371600"/>
            <a:ext cx="3047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仿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听见鸟儿的欢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起头来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目光投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高远的蓝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2:05:18Z</dcterms:created>
  <dc:creator>user</dc:creator>
  <dc:description/>
  <dc:language>en-US</dc:language>
  <cp:lastModifiedBy>zjhqxx</cp:lastModifiedBy>
  <dcterms:modified xsi:type="dcterms:W3CDTF">2003-04-17T03:48:42Z</dcterms:modified>
  <cp:revision>9</cp:revision>
  <dc:subject/>
  <dc:title>两只鸟蛋</dc:title>
</cp:coreProperties>
</file>