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A40-62F7-49E2-960C-17AF432A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84B-0387-419A-86D4-4B14CCE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B29-BEFF-4D69-AB30-B7ABE8B6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BCC-3339-4160-B3A0-4B57C366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D38F-2954-45C2-B891-DE53F7BF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A67-7C3E-4890-8EE9-AEE86A1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1FE-CD22-4811-A57F-D63DE2C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51A5-F63B-45F8-B2B8-CA3E7B0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1E3-E88A-4688-8EE9-30C5645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AD75-1F24-41BB-9B0A-4CA7A5C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5FAE-00B4-4D47-8C62-0D3D12E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271-BEA4-4BA2-8082-ADB4C3B6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DC6-B063-469D-9B52-F45B957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78A-3672-4D67-A1B6-C84442E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DADA-7487-454F-8243-E55FBF9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D7EF-CD9D-4F21-9FD8-021DDE97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BFE-5E5C-4F03-A84D-D185C0AB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8BB-4E3C-49DE-B87C-DCF8ED3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F61-0EA0-4E22-9B4D-F777D7E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FFF-716B-4F20-9567-F4349CE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AB1-E3A5-43E6-96CD-F98A09A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844-EB69-4190-806B-C53EFBA4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F83-4B7E-49FA-A7DC-D1161AC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476-19C9-4FE1-84AE-C671894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BDAF-C4F0-4D5F-9613-3175A62076E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14D-07BA-45FD-8E7E-5B316F8121A0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4c2b"/>
                </a:solidFill>
                <a:latin typeface="Times New Roman"/>
                <a:ea typeface="黑体"/>
              </a:rPr>
              <a:t>曹冲称象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称象的第一步</a:t>
            </a: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赶象上船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5562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4c2b"/>
                </a:solidFill>
                <a:latin typeface="Times New Roman"/>
              </a:rPr>
              <a:t>称象的第二步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Times New Roman"/>
              </a:rPr>
              <a:t>再把大象赶上岸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86200" y="2305080"/>
            <a:ext cx="525780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4c2b"/>
                </a:solidFill>
                <a:latin typeface="Times New Roman"/>
              </a:rPr>
              <a:t>称象的第三步</a:t>
            </a:r>
            <a:r>
              <a:rPr b="0" lang="zh-CN" sz="8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Times New Roman"/>
              </a:rPr>
              <a:t>往船上装石头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5257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4c2b"/>
                </a:solidFill>
                <a:latin typeface="Times New Roman"/>
              </a:rPr>
              <a:t>称象的第四步</a:t>
            </a:r>
            <a:endParaRPr b="0" lang="en-US" sz="8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33"/>
                </a:solidFill>
                <a:latin typeface="Times New Roman"/>
              </a:rPr>
              <a:t>称一称船上的石头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4" name="秤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1754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石头的重量就等于大象的重量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象和秤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581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8:33:10Z</dcterms:created>
  <dc:creator>PDS</dc:creator>
  <dc:description/>
  <dc:language>en-US</dc:language>
  <cp:lastModifiedBy>PDS</cp:lastModifiedBy>
  <dcterms:modified xsi:type="dcterms:W3CDTF">1999-11-07T09:35:04Z</dcterms:modified>
  <cp:revision>3</cp:revision>
  <dc:subject/>
  <dc:title>没有幻灯片标题</dc:title>
</cp:coreProperties>
</file>