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91B-A341-40A7-8DAF-8B4BE889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F57-77FE-4F80-94B6-D5679CE7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67B-C47E-4103-846D-A50AE2EA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863-084F-489B-B324-FA9444A9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C148-BDF2-4538-96A8-32B52E10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97E9-58A5-4A09-8109-F2D0C5DA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1871-4186-4D52-A23E-2641A71F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9E9B-63EC-4533-BF4F-02858494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353F-43E9-4E53-A849-0A32B8C9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2A2A-6DBC-43B8-A612-D1657040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F8DD-249D-405B-A172-2858161F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36A-DCD7-4E4E-AEAC-F609A055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9982-4605-4320-8CFD-AC315B43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660F-F424-48CD-8F4A-6B994310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3308-7D32-4F9E-9EDA-64FFB3CE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BA21-CEFD-4776-8332-80E0B155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9593-BAD7-4263-8044-5AF123B8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97F-4C0B-4022-AEC3-CC95E71F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83F-1113-4493-853E-260E95E7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0CC-8593-43AE-83CA-93A9EAEC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024-855D-4036-97E8-C0797CFF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8EB-E5C8-455F-A8AB-6FDF2133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47E-D0F0-461A-B6D3-01F079F3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0CB-985E-41BF-AC8C-112A0F45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BD28-E4A8-4660-B451-0FB0A76D463D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81D5-57C7-4876-A73A-D80183B4F6EF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4c2b"/>
                </a:solidFill>
                <a:latin typeface="Times New Roman"/>
                <a:ea typeface="黑体"/>
              </a:rPr>
              <a:t>曹冲称象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称象的第一步</a:t>
            </a: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赶象上船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2057400"/>
            <a:ext cx="55627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4c2b"/>
                </a:solidFill>
                <a:latin typeface="Times New Roman"/>
              </a:rPr>
              <a:t>称象的第二步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33"/>
                </a:solidFill>
                <a:latin typeface="Times New Roman"/>
              </a:rPr>
              <a:t>再把大象赶上岸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86200" y="2305080"/>
            <a:ext cx="525780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4c2b"/>
                </a:solidFill>
                <a:latin typeface="Times New Roman"/>
              </a:rPr>
              <a:t>称象的第三步</a:t>
            </a:r>
            <a:r>
              <a:rPr b="0" lang="zh-CN" sz="80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3276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33"/>
                </a:solidFill>
                <a:latin typeface="Times New Roman"/>
              </a:rPr>
              <a:t>往船上装石头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5257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4c2b"/>
                </a:solidFill>
                <a:latin typeface="Times New Roman"/>
              </a:rPr>
              <a:t>称象的第四步</a:t>
            </a:r>
            <a:endParaRPr b="0" lang="en-US" sz="8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33"/>
                </a:solidFill>
                <a:latin typeface="Times New Roman"/>
              </a:rPr>
              <a:t>称一称船上的石头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4" name="秤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17540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石头的重量就等于大象的重量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象和秤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5816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8:33:10Z</dcterms:created>
  <dc:creator>PDS</dc:creator>
  <dc:description/>
  <dc:language>en-US</dc:language>
  <cp:lastModifiedBy>PDS</cp:lastModifiedBy>
  <dcterms:modified xsi:type="dcterms:W3CDTF">1999-11-07T09:35:04Z</dcterms:modified>
  <cp:revision>3</cp:revision>
  <dc:subject/>
  <dc:title>没有幻灯片标题</dc:title>
</cp:coreProperties>
</file>