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FE0-6B23-49F8-9092-F7E7A343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F03-838A-413E-896D-81FD5376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BD9-331F-4F7B-AF3F-A403C251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2CC-235C-4874-BF30-A0EC7659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ED6-1638-4884-B3C2-D25DEC13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B58-E2B3-4829-A967-06173FD1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27F-A5AA-4EF4-8FA5-5DFC88BE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CAE-F202-457A-ACD2-C91C36D5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25F-4359-4D91-9F5F-D0F3D500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A35-88B0-4F5A-9807-122F3663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367-26A1-46C4-8DEE-F055E8D9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79E-0A1F-4891-ADE3-76E4595C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4A02-2F94-408F-AFDD-E4F74FCB2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21105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200" y="457200"/>
            <a:ext cx="358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6 </a:t>
            </a:r>
            <a:r>
              <a:rPr b="1" lang="zh-CN" sz="9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春风吹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0" y="0"/>
            <a:ext cx="5029200" cy="666144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6</a:t>
            </a: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春风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春风吹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春风吹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吹绿了柳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吹红了桃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吹来了燕子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吹来了青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01fe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78200" y="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春风吹，春风吹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402lush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44520" y="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吹绿了柳树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03taohua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44520" y="-22860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吹红了桃花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404yanz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97200" y="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吹来了燕子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405qingw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30560" y="0"/>
            <a:ext cx="6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吹醒了青蛙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9360" y="-19080"/>
            <a:ext cx="41277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   吹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   吹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绿了  柳树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红了  桃花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来了  燕子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醒了  青蛙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191120" y="10666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266720" y="1981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876560" y="2895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87656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800240" y="48006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800240" y="57150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71800" y="1752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4419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6248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05120" y="1447920"/>
            <a:ext cx="640080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轻轻地吹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细细地下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家快来种树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家快来种花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NA01441_" descr=""/>
          <p:cNvPicPr/>
          <p:nvPr/>
        </p:nvPicPr>
        <p:blipFill>
          <a:blip r:embed="rId1"/>
          <a:stretch/>
        </p:blipFill>
        <p:spPr>
          <a:xfrm>
            <a:off x="0" y="51721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86" name="NA01441_" descr=""/>
          <p:cNvPicPr/>
          <p:nvPr/>
        </p:nvPicPr>
        <p:blipFill>
          <a:blip r:embed="rId2"/>
          <a:stretch/>
        </p:blipFill>
        <p:spPr>
          <a:xfrm>
            <a:off x="7650000" y="51721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87" name="NA01441_" descr=""/>
          <p:cNvPicPr/>
          <p:nvPr/>
        </p:nvPicPr>
        <p:blipFill>
          <a:blip r:embed="rId3"/>
          <a:stretch/>
        </p:blipFill>
        <p:spPr>
          <a:xfrm>
            <a:off x="8077320" y="40384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88" name="NA01441_" descr=""/>
          <p:cNvPicPr/>
          <p:nvPr/>
        </p:nvPicPr>
        <p:blipFill>
          <a:blip r:embed="rId4"/>
          <a:stretch/>
        </p:blipFill>
        <p:spPr>
          <a:xfrm>
            <a:off x="0" y="3581280"/>
            <a:ext cx="1143000" cy="1076400"/>
          </a:xfrm>
          <a:prstGeom prst="rect">
            <a:avLst/>
          </a:prstGeom>
          <a:ln w="0">
            <a:noFill/>
          </a:ln>
        </p:spPr>
      </p:pic>
      <p:pic>
        <p:nvPicPr>
          <p:cNvPr id="89" name="红花" descr=""/>
          <p:cNvPicPr/>
          <p:nvPr/>
        </p:nvPicPr>
        <p:blipFill>
          <a:blip r:embed="rId5"/>
          <a:stretch/>
        </p:blipFill>
        <p:spPr>
          <a:xfrm>
            <a:off x="8153280" y="243828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90" name="红花" descr=""/>
          <p:cNvPicPr/>
          <p:nvPr/>
        </p:nvPicPr>
        <p:blipFill>
          <a:blip r:embed="rId6"/>
          <a:stretch/>
        </p:blipFill>
        <p:spPr>
          <a:xfrm>
            <a:off x="0" y="160020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91" name="红花" descr=""/>
          <p:cNvPicPr/>
          <p:nvPr/>
        </p:nvPicPr>
        <p:blipFill>
          <a:blip r:embed="rId7"/>
          <a:stretch/>
        </p:blipFill>
        <p:spPr>
          <a:xfrm>
            <a:off x="0" y="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92" name="红花" descr=""/>
          <p:cNvPicPr/>
          <p:nvPr/>
        </p:nvPicPr>
        <p:blipFill>
          <a:blip r:embed="rId8"/>
          <a:stretch/>
        </p:blipFill>
        <p:spPr>
          <a:xfrm>
            <a:off x="8153280" y="1447920"/>
            <a:ext cx="990720" cy="1242720"/>
          </a:xfrm>
          <a:prstGeom prst="rect">
            <a:avLst/>
          </a:prstGeom>
          <a:ln w="0">
            <a:noFill/>
          </a:ln>
        </p:spPr>
      </p:pic>
      <p:pic>
        <p:nvPicPr>
          <p:cNvPr id="93" name="红花" descr=""/>
          <p:cNvPicPr/>
          <p:nvPr/>
        </p:nvPicPr>
        <p:blipFill>
          <a:blip r:embed="rId9"/>
          <a:stretch/>
        </p:blipFill>
        <p:spPr>
          <a:xfrm>
            <a:off x="2209680" y="-22860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94" name="红花" descr=""/>
          <p:cNvPicPr/>
          <p:nvPr/>
        </p:nvPicPr>
        <p:blipFill>
          <a:blip r:embed="rId10"/>
          <a:stretch/>
        </p:blipFill>
        <p:spPr>
          <a:xfrm>
            <a:off x="6400800" y="-30492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95" name="红花" descr=""/>
          <p:cNvPicPr/>
          <p:nvPr/>
        </p:nvPicPr>
        <p:blipFill>
          <a:blip r:embed="rId11"/>
          <a:stretch/>
        </p:blipFill>
        <p:spPr>
          <a:xfrm>
            <a:off x="4343400" y="-30492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96" name="红花" descr=""/>
          <p:cNvPicPr/>
          <p:nvPr/>
        </p:nvPicPr>
        <p:blipFill>
          <a:blip r:embed="rId12"/>
          <a:stretch/>
        </p:blipFill>
        <p:spPr>
          <a:xfrm>
            <a:off x="8153280" y="0"/>
            <a:ext cx="99072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  <p:sndAc>
      <p:stSnd>
        <p:snd r:embed="rId1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406chuny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83040" y="1116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春风轻轻地吹，春雨细细地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07daj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12240" y="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大家快来种树，大家快来种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A01441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502320" y="4267080"/>
            <a:ext cx="26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绿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60880" y="68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17320" y="-49320"/>
            <a:ext cx="3198240" cy="73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    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    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绿了    柳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红了    桃花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来了    燕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醒了    青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    轻轻地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    细细地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家    快来种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家    快来种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048200" y="762120"/>
            <a:ext cx="218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014720" y="1371600"/>
            <a:ext cx="176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471920" y="1905120"/>
            <a:ext cx="176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395600" y="2438280"/>
            <a:ext cx="176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352400" y="2971800"/>
            <a:ext cx="219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427280" y="3505320"/>
            <a:ext cx="220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014720" y="4648320"/>
            <a:ext cx="176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90680" y="5181480"/>
            <a:ext cx="176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014720" y="5791320"/>
            <a:ext cx="176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014720" y="6324480"/>
            <a:ext cx="176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1676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657600" y="2209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576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5812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81280" y="167580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5486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495680" y="6095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6095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95680" y="6781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6781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红花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2238480"/>
            <a:ext cx="6970680" cy="4619520"/>
          </a:xfrm>
          <a:prstGeom prst="rect">
            <a:avLst/>
          </a:prstGeom>
          <a:ln w="0">
            <a:noFill/>
          </a:ln>
        </p:spPr>
      </p:pic>
      <p:pic>
        <p:nvPicPr>
          <p:cNvPr id="46" name="红花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8160" y="9936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 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N02542_" descr=""/>
          <p:cNvPicPr/>
          <p:nvPr/>
        </p:nvPicPr>
        <p:blipFill>
          <a:blip r:embed="rId1"/>
          <a:stretch/>
        </p:blipFill>
        <p:spPr>
          <a:xfrm>
            <a:off x="0" y="40384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AN02542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962520" y="4495680"/>
            <a:ext cx="281916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AN02542_" descr=""/>
          <p:cNvPicPr/>
          <p:nvPr/>
        </p:nvPicPr>
        <p:blipFill>
          <a:blip r:embed="rId3"/>
          <a:stretch/>
        </p:blipFill>
        <p:spPr>
          <a:xfrm>
            <a:off x="7696080" y="480060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52680" y="121932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青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O01862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5480" y="23623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轻 快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细雨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66880" y="233028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 雨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30492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家      快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990720"/>
            <a:ext cx="9617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绿树  红花  青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轻快  细雨  大家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5e"/>
            </a:gs>
            <a:gs pos="50000">
              <a:srgbClr val="99ffcc"/>
            </a:gs>
            <a:gs pos="100000">
              <a:srgbClr val="4675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9520" y="1447920"/>
            <a:ext cx="51814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子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醒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2:07:28Z</dcterms:created>
  <dc:creator>user</dc:creator>
  <dc:description/>
  <dc:language>en-US</dc:language>
  <cp:lastModifiedBy>一年级</cp:lastModifiedBy>
  <dcterms:modified xsi:type="dcterms:W3CDTF">2001-03-20T10:37:37Z</dcterms:modified>
  <cp:revision>54</cp:revision>
  <dc:subject/>
  <dc:title>PowerPoint 演示文稿</dc:title>
</cp:coreProperties>
</file>