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8.gif" ContentType="image/gif"/>
  <Override PartName="/ppt/media/image16.gif" ContentType="image/gif"/>
  <Override PartName="/ppt/media/image15.png" ContentType="image/png"/>
  <Override PartName="/ppt/media/image14.png" ContentType="image/png"/>
  <Override PartName="/ppt/media/image13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17.gif" ContentType="image/gif"/>
  <Override PartName="/ppt/media/camera.wav" ContentType="audio/x-wav"/>
  <Override PartName="/ppt/media/image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93A-4933-41AF-AA39-DA085DA2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6D0-3B93-408A-B3A3-74D54704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E61-84A6-4688-BC35-B5591A42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A76-C5C4-48DD-B8E3-CF3FCB47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D41-98E4-4AED-944C-78D0D956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37A-D72E-47F2-A8D0-10EC9790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837-17A4-4EAF-A22F-4E47783F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DF0-C986-43CD-A3CE-19F4C07D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E38-7A35-4807-B563-CD81D938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ED3-2BDB-4488-B092-E82F1BDA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8A0-7CF0-4B69-AC0A-026DD59E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79D-1839-40EB-8E31-644D1864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CBE8-6394-429A-B3D1-898D648B00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0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ga162" descr=""/>
          <p:cNvPicPr/>
          <p:nvPr/>
        </p:nvPicPr>
        <p:blipFill>
          <a:blip r:embed="rId2"/>
          <a:stretch/>
        </p:blipFill>
        <p:spPr>
          <a:xfrm>
            <a:off x="4038480" y="1657440"/>
            <a:ext cx="12956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3276720" cy="3056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47920" y="380880"/>
            <a:ext cx="3200400" cy="317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3238560" cy="3044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371600" y="3505320"/>
            <a:ext cx="3276720" cy="302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6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T_002" descr=""/>
          <p:cNvPicPr/>
          <p:nvPr/>
        </p:nvPicPr>
        <p:blipFill>
          <a:blip r:embed="rId2"/>
          <a:stretch/>
        </p:blipFill>
        <p:spPr>
          <a:xfrm>
            <a:off x="3962520" y="609480"/>
            <a:ext cx="3352680" cy="1971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5120" y="342900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小朋友，从这篇课文中，你学到了什么？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01" descr=""/>
          <p:cNvPicPr/>
          <p:nvPr/>
        </p:nvPicPr>
        <p:blipFill>
          <a:blip r:embed="rId3"/>
          <a:stretch/>
        </p:blipFill>
        <p:spPr>
          <a:xfrm>
            <a:off x="1295280" y="838080"/>
            <a:ext cx="1292400" cy="1622520"/>
          </a:xfrm>
          <a:prstGeom prst="rect">
            <a:avLst/>
          </a:prstGeom>
          <a:ln w="0">
            <a:noFill/>
          </a:ln>
        </p:spPr>
      </p:pic>
      <p:pic>
        <p:nvPicPr>
          <p:cNvPr id="67" name="0001_GIF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22960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2784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有一天，小猴子下山来，走到一块玉米地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988760" y="0"/>
            <a:ext cx="11552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他看见玉米结得又大又多，非常高兴，就掰了一个，扛着往前走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0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43000" y="5303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小猴子扛着玉米，走到一棵桃树底下。他看见满树的桃子又大又红，非常高兴，就扔了玉米，去摘桃子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0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小猴子捧着几个桃子，走到一片瓜地里。他看见满地的西瓜又大又圆，非常高兴，就扔了桃子，去摘西瓜。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0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38480" y="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小猴子抱着一个大西瓜往回走。走着走着，他看见一只小兔儿蹦蹦跳跳的，真可爱，就扔了西瓜，去追小兔儿。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00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00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小兔儿跑进树林里，不见了。小猴子只好空着手回家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ga162" descr=""/>
          <p:cNvPicPr/>
          <p:nvPr/>
        </p:nvPicPr>
        <p:blipFill>
          <a:blip r:embed="rId2"/>
          <a:stretch/>
        </p:blipFill>
        <p:spPr>
          <a:xfrm>
            <a:off x="228600" y="0"/>
            <a:ext cx="130968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015_JPG" descr=""/>
          <p:cNvPicPr/>
          <p:nvPr/>
        </p:nvPicPr>
        <p:blipFill>
          <a:blip r:embed="rId3"/>
          <a:stretch/>
        </p:blipFill>
        <p:spPr>
          <a:xfrm>
            <a:off x="4648320" y="3429000"/>
            <a:ext cx="1052280" cy="1486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47920" y="10666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谁能完整地说一说小猴子下山都来到了哪些地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4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167652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小猴子来到了什么地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它看见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它是怎样做的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0384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提示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猴子走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他看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非常高兴，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38280" y="533520"/>
            <a:ext cx="32004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课 文 学 习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12:51:59Z</dcterms:created>
  <dc:creator>徐再兴</dc:creator>
  <dc:description/>
  <dc:language>en-US</dc:language>
  <cp:lastModifiedBy>lichengquan</cp:lastModifiedBy>
  <dcterms:modified xsi:type="dcterms:W3CDTF">2003-03-12T07:58:04Z</dcterms:modified>
  <cp:revision>13</cp:revision>
  <dc:subject/>
  <dc:title>PowerPoint 演示文稿</dc:title>
</cp:coreProperties>
</file>